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30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26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33.jpeg" ContentType="image/jpeg"/>
  <Override PartName="/ppt/media/image28.wmf" ContentType="image/x-wmf"/>
  <Override PartName="/ppt/media/image6.wmf" ContentType="image/x-wmf"/>
  <Override PartName="/ppt/media/image34.jpeg" ContentType="image/jpeg"/>
  <Override PartName="/ppt/media/image29.jpeg" ContentType="image/jpeg"/>
  <Override PartName="/ppt/media/image3.wmf" ContentType="image/x-wmf"/>
  <Override PartName="/ppt/media/image4.wmf" ContentType="image/x-wmf"/>
  <Override PartName="/ppt/media/image27.wmf" ContentType="image/x-wmf"/>
  <Override PartName="/ppt/media/image35.jpeg" ContentType="image/jpeg"/>
  <Override PartName="/ppt/media/image1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6D21-7BF2-44F5-8636-458B7C213E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4997520" cy="4079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Le LAeq est l'indicateur retenu de façon généralisée pour caractériser les bruits de l'envir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 de ha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&gt; zone amb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4997520" cy="4079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Valeurs données à titre d’exemple indicatif, la sensation dépend des individus et du contex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25360" y="70488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23760" y="4361040"/>
            <a:ext cx="4997520" cy="4079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A commenter rapidement,sans entrer dans le détai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Signaler qu'il s'agit ici de bruits auxquels sont soumis les individus ; en matière de bruit routier, on parle plus fréquemment du bruit à l'extérieur en façad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6D6-E530-4F1C-8782-9EEE59D1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56A-C42D-4073-AA2C-E26F82E7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58C-DA74-41A7-BF11-3EE506F0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694-BDBA-4092-A231-BDBB2C25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431-8F34-4A18-BFBD-EDE77F94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633-3EAA-4313-80FB-D3DCF809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F32-FBB1-41F7-99FC-FD4D2B59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25A-08D6-4174-897D-9265D400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806-6073-4A7F-918C-44B76F1A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E7C-7487-432E-80F8-7C915B49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934-9393-4BE2-B63C-27FB6318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751-4BA0-4880-AA28-C196252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4FE2-17E3-4D66-B9B1-1E0BADA1D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962520" y="5486400"/>
            <a:ext cx="15238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ions d’acoustiq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150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ia Doisy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oratoire Régional des Po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Chaussées de Strasbour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5867280"/>
            <a:ext cx="2361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 octobre 2008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Kintzhe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38480" y="5251320"/>
            <a:ext cx="1260720" cy="160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62320" y="30492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tion d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issaires-enquêteu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92160" y="1913040"/>
            <a:ext cx="8151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veau sonore équivalen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yenne énerg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327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33cc"/>
                  </a:solidFill>
                  <a:latin typeface="Arial"/>
                </a:rPr>
                <a:t>Les indicateurs de bruit</a:t>
              </a:r>
              <a:br>
                <a:rPr sz="4400"/>
              </a:br>
              <a:r>
                <a:rPr b="1" lang="fr-FR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fr-FR" sz="3200" spc="-1" strike="noStrike">
                  <a:solidFill>
                    <a:srgbClr val="3333cc"/>
                  </a:solidFill>
                  <a:latin typeface="Arial Narrow"/>
                </a:rPr>
                <a:t>Le niveau sonore équivalent LAeq(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70000" y="2874960"/>
            <a:ext cx="8577000" cy="3246480"/>
            <a:chOff x="270000" y="2874960"/>
            <a:chExt cx="8577000" cy="3246480"/>
          </a:xfrm>
        </p:grpSpPr>
        <p:pic>
          <p:nvPicPr>
            <p:cNvPr id="330" name="" descr=""/>
            <p:cNvPicPr/>
            <p:nvPr/>
          </p:nvPicPr>
          <p:blipFill>
            <a:blip r:embed="rId1"/>
            <a:stretch/>
          </p:blipFill>
          <p:spPr>
            <a:xfrm>
              <a:off x="270000" y="2874960"/>
              <a:ext cx="8577000" cy="3246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1" name=""/>
            <p:cNvSpPr/>
            <p:nvPr/>
          </p:nvSpPr>
          <p:spPr>
            <a:xfrm>
              <a:off x="1612800" y="3182760"/>
              <a:ext cx="844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iveau de 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nstantan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46760" y="3335400"/>
              <a:ext cx="844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iveau de pr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équival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9600" y="3139920"/>
              <a:ext cx="49212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4630680"/>
              <a:ext cx="19702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3711600" y="4579920"/>
              <a:ext cx="123012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607080" y="5545080"/>
              <a:ext cx="133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ême énergie son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(surface de la courb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60360" y="5545080"/>
              <a:ext cx="133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énergie son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(surface de la courb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11520" y="4792680"/>
              <a:ext cx="1870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oyenne énergé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4880" y="3341520"/>
              <a:ext cx="198360" cy="292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69000" y="3265560"/>
              <a:ext cx="270000" cy="29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69000" y="4027320"/>
              <a:ext cx="270000" cy="292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88080" y="3997440"/>
              <a:ext cx="422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LA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16440" y="3182760"/>
              <a:ext cx="4222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B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5960" y="3392640"/>
              <a:ext cx="420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B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54520" y="2979720"/>
              <a:ext cx="49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 Narrow"/>
                </a:rPr>
                <a:t>L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04920" y="380880"/>
            <a:ext cx="8492760" cy="1562040"/>
            <a:chOff x="304920" y="380880"/>
            <a:chExt cx="8492760" cy="1562040"/>
          </a:xfrm>
        </p:grpSpPr>
        <p:sp>
          <p:nvSpPr>
            <p:cNvPr id="347" name=""/>
            <p:cNvSpPr/>
            <p:nvPr/>
          </p:nvSpPr>
          <p:spPr>
            <a:xfrm>
              <a:off x="304920" y="380880"/>
              <a:ext cx="8492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Effets du bruit </a:t>
              </a:r>
              <a:br>
                <a:rPr sz="4400"/>
              </a:b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sur la santé</a:t>
              </a: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43560" y="1204920"/>
              <a:ext cx="70686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28600" y="2519280"/>
            <a:ext cx="8605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Effets non audi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stress,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sommeil   (si niveaux crête &gt; 45 dB(A) près de l’orei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perturbations physiologiques (neuro-endocrinien, cardio-vascul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 habitu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676520" y="228600"/>
            <a:ext cx="7619760" cy="1562040"/>
            <a:chOff x="1676520" y="228600"/>
            <a:chExt cx="7619760" cy="1562040"/>
          </a:xfrm>
        </p:grpSpPr>
        <p:sp>
          <p:nvSpPr>
            <p:cNvPr id="351" name=""/>
            <p:cNvSpPr/>
            <p:nvPr/>
          </p:nvSpPr>
          <p:spPr>
            <a:xfrm>
              <a:off x="1676520" y="228600"/>
              <a:ext cx="7619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Réglementat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49280" y="1052640"/>
              <a:ext cx="634176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05880" y="457200"/>
            <a:ext cx="3366000" cy="2270880"/>
            <a:chOff x="5105880" y="457200"/>
            <a:chExt cx="3366000" cy="2270880"/>
          </a:xfrm>
        </p:grpSpPr>
        <p:sp>
          <p:nvSpPr>
            <p:cNvPr id="354" name=""/>
            <p:cNvSpPr/>
            <p:nvPr/>
          </p:nvSpPr>
          <p:spPr>
            <a:xfrm>
              <a:off x="5646960" y="457200"/>
              <a:ext cx="0" cy="9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5880" y="1414440"/>
              <a:ext cx="3366000" cy="1313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ticle 15 :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ésorption des situations d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êne sonore existante dite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 points noirs 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2289240" y="0"/>
            <a:ext cx="50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i cadre du 31 décembre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821320" y="438120"/>
            <a:ext cx="3932640" cy="5665320"/>
            <a:chOff x="2821320" y="438120"/>
            <a:chExt cx="3932640" cy="5665320"/>
          </a:xfrm>
        </p:grpSpPr>
        <p:sp>
          <p:nvSpPr>
            <p:cNvPr id="358" name=""/>
            <p:cNvSpPr/>
            <p:nvPr/>
          </p:nvSpPr>
          <p:spPr>
            <a:xfrm>
              <a:off x="4787640" y="438120"/>
              <a:ext cx="0" cy="34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21320" y="3875040"/>
              <a:ext cx="3932640" cy="222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 571-10 Code Env (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Arial"/>
                </a:rPr>
                <a:t>article 13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)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obligation des constructeurs de 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bâtiments aux abords des voies 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bruyantes existantes ou en projet</a:t>
              </a:r>
              <a:br>
                <a:rPr sz="2000"/>
              </a:b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87880" y="5292720"/>
            <a:ext cx="4911120" cy="1313640"/>
          </a:xfrm>
          <a:prstGeom prst="rect">
            <a:avLst/>
          </a:prstGeom>
          <a:solidFill>
            <a:srgbClr val="f2b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 571-44 à 52 Code Env (décret n° 95-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 9 janvier 199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rêté d’application du 30 mai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rculaire DPPR 25 juillet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44880" y="4428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4880" y="746280"/>
            <a:ext cx="3931200" cy="131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 571-9 Code Env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rticle 1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ligation des maîtres d’ouvrag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rs de la construction ou de la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ification d’une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98920" y="434880"/>
            <a:ext cx="419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03880" y="2727360"/>
            <a:ext cx="3031920" cy="398880"/>
          </a:xfrm>
          <a:prstGeom prst="rect">
            <a:avLst/>
          </a:prstGeom>
          <a:solidFill>
            <a:srgbClr val="f2b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ire 25 mai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6640" y="2017800"/>
            <a:ext cx="4149720" cy="1618560"/>
          </a:xfrm>
          <a:prstGeom prst="rect">
            <a:avLst/>
          </a:prstGeom>
          <a:solidFill>
            <a:srgbClr val="f2b7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 571-32 à 43 Code Env (décret n° 95-22 du 9 janvier 1995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rrêtés du 5/05/1995 et du 8/11/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rculaires du 12 dec 1997 et du 20 février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280" y="990720"/>
            <a:ext cx="86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s infrastructures d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1219320" y="1143000"/>
            <a:ext cx="8535960" cy="2819520"/>
            <a:chOff x="1219320" y="1143000"/>
            <a:chExt cx="8535960" cy="2819520"/>
          </a:xfrm>
        </p:grpSpPr>
        <p:sp>
          <p:nvSpPr>
            <p:cNvPr id="368" name=""/>
            <p:cNvSpPr/>
            <p:nvPr/>
          </p:nvSpPr>
          <p:spPr>
            <a:xfrm>
              <a:off x="1220760" y="175248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Mesures état initia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8680" y="2286000"/>
              <a:ext cx="1066680" cy="38088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19320" y="27432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mparaison de variant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19320" y="34290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Etude de la solution retenu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1430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2- Les étapes de l’A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5360" y="2209680"/>
              <a:ext cx="6019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éfinition des objecti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219320" y="4114800"/>
            <a:ext cx="8535960" cy="2362320"/>
            <a:chOff x="1219320" y="4114800"/>
            <a:chExt cx="8535960" cy="2362320"/>
          </a:xfrm>
        </p:grpSpPr>
        <p:sp>
          <p:nvSpPr>
            <p:cNvPr id="375" name=""/>
            <p:cNvSpPr/>
            <p:nvPr/>
          </p:nvSpPr>
          <p:spPr>
            <a:xfrm>
              <a:off x="1906560" y="41148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3- La vérification après mise en servi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48006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sures en faça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9320" y="5334120"/>
              <a:ext cx="8178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sures de réception d’écr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5943600"/>
              <a:ext cx="8178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sures d’isolation de façad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905120" y="457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- L’étude préliminaire 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EMPLE DE PROJET    :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 GRAND CONTOURNEMENT OUEST DE STRASBO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76320" y="3276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434360" cy="54928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305240" y="2514600"/>
            <a:ext cx="2400480" cy="4343400"/>
          </a:xfrm>
          <a:custGeom>
            <a:avLst/>
            <a:gdLst/>
            <a:ahLst/>
            <a:rect l="l" t="t" r="r" b="b"/>
            <a:pathLst>
              <a:path w="1512" h="2736">
                <a:moveTo>
                  <a:pt x="24" y="2736"/>
                </a:moveTo>
                <a:cubicBezTo>
                  <a:pt x="64" y="2704"/>
                  <a:pt x="104" y="2672"/>
                  <a:pt x="120" y="2640"/>
                </a:cubicBezTo>
                <a:cubicBezTo>
                  <a:pt x="136" y="2608"/>
                  <a:pt x="128" y="2624"/>
                  <a:pt x="120" y="2544"/>
                </a:cubicBezTo>
                <a:cubicBezTo>
                  <a:pt x="112" y="2464"/>
                  <a:pt x="88" y="2288"/>
                  <a:pt x="72" y="2160"/>
                </a:cubicBezTo>
                <a:cubicBezTo>
                  <a:pt x="56" y="2032"/>
                  <a:pt x="0" y="1912"/>
                  <a:pt x="24" y="1776"/>
                </a:cubicBezTo>
                <a:cubicBezTo>
                  <a:pt x="48" y="1640"/>
                  <a:pt x="112" y="1480"/>
                  <a:pt x="216" y="1344"/>
                </a:cubicBezTo>
                <a:cubicBezTo>
                  <a:pt x="320" y="1208"/>
                  <a:pt x="544" y="1104"/>
                  <a:pt x="648" y="960"/>
                </a:cubicBezTo>
                <a:cubicBezTo>
                  <a:pt x="752" y="816"/>
                  <a:pt x="768" y="616"/>
                  <a:pt x="840" y="480"/>
                </a:cubicBezTo>
                <a:cubicBezTo>
                  <a:pt x="912" y="344"/>
                  <a:pt x="968" y="224"/>
                  <a:pt x="1080" y="144"/>
                </a:cubicBezTo>
                <a:cubicBezTo>
                  <a:pt x="1192" y="64"/>
                  <a:pt x="1440" y="24"/>
                  <a:pt x="1512" y="0"/>
                </a:cubicBezTo>
              </a:path>
            </a:pathLst>
          </a:custGeom>
          <a:noFill/>
          <a:ln w="73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prélimin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2590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veloppes de protection autour du bâ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enveloppes de  protection autour du bâti représentent les distances autour du bâti sensible au-delà desquelles la future infrastructure ne sera pas génératrice d'un niveau de bruit donné pour ces bâti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alage_trace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531504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Mesures Etat Ini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1028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chantillonn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2362320"/>
            <a:ext cx="81788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en de points de mes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 représentativité / coû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veau d’é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l endro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 en tra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é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du bâ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Mesures Etat Ini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96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196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527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286000" y="1203480"/>
            <a:ext cx="5562720" cy="541476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2362320" y="1676520"/>
            <a:ext cx="2628720" cy="2193840"/>
            <a:chOff x="2362320" y="1676520"/>
            <a:chExt cx="2628720" cy="2193840"/>
          </a:xfrm>
        </p:grpSpPr>
        <p:sp>
          <p:nvSpPr>
            <p:cNvPr id="399" name=""/>
            <p:cNvSpPr/>
            <p:nvPr/>
          </p:nvSpPr>
          <p:spPr>
            <a:xfrm>
              <a:off x="3962520" y="1676520"/>
              <a:ext cx="496800" cy="210960"/>
            </a:xfrm>
            <a:prstGeom prst="borderCallout1">
              <a:avLst>
                <a:gd name="adj1" fmla="val 18750"/>
                <a:gd name="adj2" fmla="val -8333"/>
                <a:gd name="adj3" fmla="val 306884"/>
                <a:gd name="adj4" fmla="val -67351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5320" y="2743200"/>
              <a:ext cx="496800" cy="212760"/>
            </a:xfrm>
            <a:prstGeom prst="borderCallout1">
              <a:avLst>
                <a:gd name="adj1" fmla="val 18750"/>
                <a:gd name="adj2" fmla="val -8333"/>
                <a:gd name="adj3" fmla="val -57486"/>
                <a:gd name="adj4" fmla="val -43407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90920" y="3657600"/>
              <a:ext cx="496800" cy="212760"/>
            </a:xfrm>
            <a:prstGeom prst="borderCallout1">
              <a:avLst>
                <a:gd name="adj1" fmla="val 18750"/>
                <a:gd name="adj2" fmla="val -8333"/>
                <a:gd name="adj3" fmla="val -224250"/>
                <a:gd name="adj4" fmla="val -16134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5680" y="1981080"/>
              <a:ext cx="495360" cy="212760"/>
            </a:xfrm>
            <a:prstGeom prst="borderCallout1">
              <a:avLst>
                <a:gd name="adj1" fmla="val 18750"/>
                <a:gd name="adj2" fmla="val -8333"/>
                <a:gd name="adj3" fmla="val 144013"/>
                <a:gd name="adj4" fmla="val -81435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62320" y="2286000"/>
              <a:ext cx="496800" cy="212760"/>
            </a:xfrm>
            <a:prstGeom prst="borderCallout1">
              <a:avLst>
                <a:gd name="adj1" fmla="val 18750"/>
                <a:gd name="adj2" fmla="val -8333"/>
                <a:gd name="adj3" fmla="val 328444"/>
                <a:gd name="adj4" fmla="val 125351"/>
              </a:avLst>
            </a:prstGeom>
            <a:solidFill>
              <a:srgbClr val="ff0000">
                <a:alpha val="50000"/>
              </a:srgbClr>
            </a:solidFill>
            <a:ln w="1584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572000" y="4724280"/>
            <a:ext cx="496800" cy="212760"/>
          </a:xfrm>
          <a:prstGeom prst="borderCallout1">
            <a:avLst>
              <a:gd name="adj1" fmla="val 18750"/>
              <a:gd name="adj2" fmla="val -8333"/>
              <a:gd name="adj3" fmla="val -250000"/>
              <a:gd name="adj4" fmla="val -123962"/>
            </a:avLst>
          </a:prstGeom>
          <a:solidFill>
            <a:srgbClr val="00ff00">
              <a:alpha val="50000"/>
            </a:srgbClr>
          </a:solidFill>
          <a:ln w="1584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057400" y="1752120"/>
            <a:ext cx="2895480" cy="83844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32_Boulange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9955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523880"/>
            <a:ext cx="806400" cy="23623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1981080"/>
            <a:ext cx="1207800" cy="712800"/>
          </a:xfrm>
          <a:custGeom>
            <a:avLst/>
            <a:gdLst/>
            <a:ahLst/>
            <a:rect l="l" t="t" r="r" b="b"/>
            <a:pathLst>
              <a:path w="1350" h="683">
                <a:moveTo>
                  <a:pt x="1350" y="0"/>
                </a:moveTo>
                <a:lnTo>
                  <a:pt x="0" y="683"/>
                </a:ln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955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05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905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5762520" cy="2238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886200" cy="30700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 rot="10800000">
            <a:off x="1447920" y="4951800"/>
            <a:ext cx="454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86600" y="304920"/>
            <a:ext cx="99072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27400" y="19890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1840" y="202716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79680" y="212580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11140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8480" y="21114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98680" y="20732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54320" y="211140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6480" y="195264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24200" y="2089080"/>
            <a:ext cx="792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71720" y="20732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5400" y="20732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13120" y="203508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67040" y="205740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54520" y="20509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2360" y="214956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30760" y="213372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59120" y="21416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0800" y="21416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1360" y="2103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7000" y="214164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9160" y="1982880"/>
            <a:ext cx="792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484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97120" y="209556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59120" y="21034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18080" y="2103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65440" y="20653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01880" y="2103480"/>
            <a:ext cx="828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2027160"/>
            <a:ext cx="144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8160" y="21258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9576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8640" y="211140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35560" y="21193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9320" y="21193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29240" y="20732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3080" y="2111400"/>
            <a:ext cx="7920" cy="1258920"/>
          </a:xfrm>
          <a:custGeom>
            <a:avLst/>
            <a:gdLst/>
            <a:ahLst/>
            <a:rect l="l" t="t" r="r" b="b"/>
            <a:pathLst>
              <a:path w="5" h="793">
                <a:moveTo>
                  <a:pt x="0" y="793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19526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19890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38720" y="198900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1480" y="207324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35560" y="208116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03880" y="20732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86240" y="207324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27480" y="212580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92640" y="220176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19560" y="22096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512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888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98960" y="20509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2720" y="208116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5280" y="217980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044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8280" y="216360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1956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9960" y="2171880"/>
            <a:ext cx="7920" cy="125064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9580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25880" y="21337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57760" y="2111400"/>
            <a:ext cx="1440" cy="1326960"/>
          </a:xfrm>
          <a:custGeom>
            <a:avLst/>
            <a:gdLst/>
            <a:ahLst/>
            <a:rect l="l" t="t" r="r" b="b"/>
            <a:pathLst>
              <a:path w="0" h="836">
                <a:moveTo>
                  <a:pt x="0" y="0"/>
                </a:moveTo>
                <a:lnTo>
                  <a:pt x="0" y="836"/>
                </a:lnTo>
                <a:lnTo>
                  <a:pt x="0" y="8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18040" y="20732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94280" y="211140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5008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908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7440" y="2193840"/>
            <a:ext cx="180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5320" y="2193840"/>
            <a:ext cx="1440" cy="125280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0600" y="207324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5800" y="2157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1574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56400" y="21574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03760" y="211932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29320" y="2125800"/>
            <a:ext cx="1800" cy="1252440"/>
          </a:xfrm>
          <a:custGeom>
            <a:avLst/>
            <a:gdLst/>
            <a:ahLst/>
            <a:rect l="l" t="t" r="r" b="b"/>
            <a:pathLst>
              <a:path w="0" h="789">
                <a:moveTo>
                  <a:pt x="0" y="789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9448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05560" y="22096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4280" y="220968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8040" y="2209680"/>
            <a:ext cx="1440" cy="125892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6160" y="2171880"/>
            <a:ext cx="180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81800" y="2209680"/>
            <a:ext cx="7920" cy="125100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11880" y="205092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24560" y="2089080"/>
            <a:ext cx="180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7440" y="2089080"/>
            <a:ext cx="1440" cy="125100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8020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3360" y="2179800"/>
            <a:ext cx="7920" cy="1250640"/>
          </a:xfrm>
          <a:custGeom>
            <a:avLst/>
            <a:gdLst/>
            <a:ahLst/>
            <a:rect l="l" t="t" r="r" b="b"/>
            <a:pathLst>
              <a:path w="5" h="788">
                <a:moveTo>
                  <a:pt x="0" y="788"/>
                </a:moveTo>
                <a:lnTo>
                  <a:pt x="0" y="0"/>
                </a:lnTo>
                <a:lnTo>
                  <a:pt x="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6120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34280" y="2171880"/>
            <a:ext cx="1440" cy="1258560"/>
          </a:xfrm>
          <a:custGeom>
            <a:avLst/>
            <a:gdLst/>
            <a:ahLst/>
            <a:rect l="l" t="t" r="r" b="b"/>
            <a:pathLst>
              <a:path w="0" h="793">
                <a:moveTo>
                  <a:pt x="0" y="793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84960" y="217188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27920" y="2187720"/>
            <a:ext cx="1440" cy="1250640"/>
          </a:xfrm>
          <a:custGeom>
            <a:avLst/>
            <a:gdLst/>
            <a:ahLst/>
            <a:rect l="l" t="t" r="r" b="b"/>
            <a:pathLst>
              <a:path w="0" h="788">
                <a:moveTo>
                  <a:pt x="0" y="78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145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Notions fondamentales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Génération des ondes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25640" y="1957320"/>
            <a:ext cx="7645320" cy="1930320"/>
            <a:chOff x="1025640" y="1957320"/>
            <a:chExt cx="7645320" cy="1930320"/>
          </a:xfrm>
        </p:grpSpPr>
        <p:sp>
          <p:nvSpPr>
            <p:cNvPr id="148" name=""/>
            <p:cNvSpPr/>
            <p:nvPr/>
          </p:nvSpPr>
          <p:spPr>
            <a:xfrm>
              <a:off x="1025640" y="1957320"/>
              <a:ext cx="764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ise en vibration de l’air, d’un solide ou d’un liqu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077920" y="2354400"/>
              <a:ext cx="1006560" cy="15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629240" y="2608200"/>
              <a:ext cx="1558800" cy="10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949320" y="4173480"/>
            <a:ext cx="7734240" cy="2190960"/>
            <a:chOff x="949320" y="4173480"/>
            <a:chExt cx="7734240" cy="2190960"/>
          </a:xfrm>
        </p:grpSpPr>
        <p:sp>
          <p:nvSpPr>
            <p:cNvPr id="152" name=""/>
            <p:cNvSpPr/>
            <p:nvPr/>
          </p:nvSpPr>
          <p:spPr>
            <a:xfrm>
              <a:off x="949320" y="4173480"/>
              <a:ext cx="773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coustique = ondes de pression (compression / dilat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279520" y="4751280"/>
              <a:ext cx="498600" cy="161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3233880" y="5064120"/>
              <a:ext cx="4003200" cy="576000"/>
              <a:chOff x="3233880" y="5064120"/>
              <a:chExt cx="4003200" cy="57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4562280" y="5064120"/>
                <a:ext cx="669600" cy="569880"/>
              </a:xfrm>
              <a:custGeom>
                <a:avLst/>
                <a:gdLst/>
                <a:ahLst/>
                <a:rect l="l" t="t" r="r" b="b"/>
                <a:pathLst>
                  <a:path w="422" h="359">
                    <a:moveTo>
                      <a:pt x="0" y="359"/>
                    </a:moveTo>
                    <a:lnTo>
                      <a:pt x="6" y="359"/>
                    </a:lnTo>
                    <a:lnTo>
                      <a:pt x="16" y="354"/>
                    </a:lnTo>
                    <a:lnTo>
                      <a:pt x="21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2" y="273"/>
                    </a:lnTo>
                    <a:lnTo>
                      <a:pt x="87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8" y="115"/>
                    </a:lnTo>
                    <a:lnTo>
                      <a:pt x="163" y="82"/>
                    </a:lnTo>
                    <a:lnTo>
                      <a:pt x="178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8" y="24"/>
                    </a:lnTo>
                    <a:lnTo>
                      <a:pt x="204" y="15"/>
                    </a:lnTo>
                    <a:lnTo>
                      <a:pt x="214" y="10"/>
                    </a:lnTo>
                    <a:lnTo>
                      <a:pt x="219" y="5"/>
                    </a:lnTo>
                    <a:lnTo>
                      <a:pt x="224" y="0"/>
                    </a:lnTo>
                    <a:lnTo>
                      <a:pt x="234" y="0"/>
                    </a:lnTo>
                    <a:lnTo>
                      <a:pt x="239" y="0"/>
                    </a:lnTo>
                    <a:lnTo>
                      <a:pt x="244" y="5"/>
                    </a:lnTo>
                    <a:lnTo>
                      <a:pt x="254" y="10"/>
                    </a:lnTo>
                    <a:lnTo>
                      <a:pt x="259" y="15"/>
                    </a:lnTo>
                    <a:lnTo>
                      <a:pt x="264" y="24"/>
                    </a:lnTo>
                    <a:lnTo>
                      <a:pt x="269" y="34"/>
                    </a:lnTo>
                    <a:lnTo>
                      <a:pt x="275" y="43"/>
                    </a:lnTo>
                    <a:lnTo>
                      <a:pt x="280" y="58"/>
                    </a:lnTo>
                    <a:lnTo>
                      <a:pt x="295" y="82"/>
                    </a:lnTo>
                    <a:lnTo>
                      <a:pt x="305" y="115"/>
                    </a:lnTo>
                    <a:lnTo>
                      <a:pt x="315" y="144"/>
                    </a:lnTo>
                    <a:lnTo>
                      <a:pt x="325" y="177"/>
                    </a:lnTo>
                    <a:lnTo>
                      <a:pt x="335" y="211"/>
                    </a:lnTo>
                    <a:lnTo>
                      <a:pt x="346" y="244"/>
                    </a:lnTo>
                    <a:lnTo>
                      <a:pt x="361" y="273"/>
                    </a:lnTo>
                    <a:lnTo>
                      <a:pt x="371" y="301"/>
                    </a:lnTo>
                    <a:lnTo>
                      <a:pt x="376" y="316"/>
                    </a:lnTo>
                    <a:lnTo>
                      <a:pt x="381" y="325"/>
                    </a:lnTo>
                    <a:lnTo>
                      <a:pt x="386" y="335"/>
                    </a:lnTo>
                    <a:lnTo>
                      <a:pt x="396" y="344"/>
                    </a:lnTo>
                    <a:lnTo>
                      <a:pt x="401" y="349"/>
                    </a:lnTo>
                    <a:lnTo>
                      <a:pt x="407" y="354"/>
                    </a:lnTo>
                    <a:lnTo>
                      <a:pt x="417" y="359"/>
                    </a:lnTo>
                    <a:lnTo>
                      <a:pt x="422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08680" y="5064120"/>
                <a:ext cx="659880" cy="569880"/>
              </a:xfrm>
              <a:custGeom>
                <a:avLst/>
                <a:gdLst/>
                <a:ahLst/>
                <a:rect l="l" t="t" r="r" b="b"/>
                <a:pathLst>
                  <a:path w="416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0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6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2" y="115"/>
                    </a:lnTo>
                    <a:lnTo>
                      <a:pt x="157" y="82"/>
                    </a:lnTo>
                    <a:lnTo>
                      <a:pt x="173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3" y="24"/>
                    </a:lnTo>
                    <a:lnTo>
                      <a:pt x="203" y="15"/>
                    </a:lnTo>
                    <a:lnTo>
                      <a:pt x="208" y="10"/>
                    </a:lnTo>
                    <a:lnTo>
                      <a:pt x="218" y="5"/>
                    </a:lnTo>
                    <a:lnTo>
                      <a:pt x="223" y="0"/>
                    </a:lnTo>
                    <a:lnTo>
                      <a:pt x="228" y="0"/>
                    </a:lnTo>
                    <a:lnTo>
                      <a:pt x="234" y="0"/>
                    </a:lnTo>
                    <a:lnTo>
                      <a:pt x="244" y="5"/>
                    </a:lnTo>
                    <a:lnTo>
                      <a:pt x="249" y="10"/>
                    </a:lnTo>
                    <a:lnTo>
                      <a:pt x="254" y="15"/>
                    </a:lnTo>
                    <a:lnTo>
                      <a:pt x="259" y="24"/>
                    </a:lnTo>
                    <a:lnTo>
                      <a:pt x="264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89" y="82"/>
                    </a:lnTo>
                    <a:lnTo>
                      <a:pt x="300" y="115"/>
                    </a:lnTo>
                    <a:lnTo>
                      <a:pt x="310" y="144"/>
                    </a:lnTo>
                    <a:lnTo>
                      <a:pt x="320" y="177"/>
                    </a:lnTo>
                    <a:lnTo>
                      <a:pt x="330" y="211"/>
                    </a:lnTo>
                    <a:lnTo>
                      <a:pt x="345" y="244"/>
                    </a:lnTo>
                    <a:lnTo>
                      <a:pt x="355" y="273"/>
                    </a:lnTo>
                    <a:lnTo>
                      <a:pt x="365" y="301"/>
                    </a:lnTo>
                    <a:lnTo>
                      <a:pt x="371" y="316"/>
                    </a:lnTo>
                    <a:lnTo>
                      <a:pt x="376" y="325"/>
                    </a:lnTo>
                    <a:lnTo>
                      <a:pt x="386" y="335"/>
                    </a:lnTo>
                    <a:lnTo>
                      <a:pt x="391" y="344"/>
                    </a:lnTo>
                    <a:lnTo>
                      <a:pt x="396" y="349"/>
                    </a:lnTo>
                    <a:lnTo>
                      <a:pt x="401" y="354"/>
                    </a:lnTo>
                    <a:lnTo>
                      <a:pt x="411" y="359"/>
                    </a:lnTo>
                    <a:lnTo>
                      <a:pt x="416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576840" y="5064120"/>
                <a:ext cx="660240" cy="576000"/>
              </a:xfrm>
              <a:custGeom>
                <a:avLst/>
                <a:gdLst/>
                <a:ahLst/>
                <a:rect l="l" t="t" r="r" b="b"/>
                <a:pathLst>
                  <a:path w="416" h="363">
                    <a:moveTo>
                      <a:pt x="0" y="363"/>
                    </a:moveTo>
                    <a:lnTo>
                      <a:pt x="5" y="363"/>
                    </a:lnTo>
                    <a:lnTo>
                      <a:pt x="16" y="359"/>
                    </a:lnTo>
                    <a:lnTo>
                      <a:pt x="21" y="354"/>
                    </a:lnTo>
                    <a:lnTo>
                      <a:pt x="31" y="344"/>
                    </a:lnTo>
                    <a:lnTo>
                      <a:pt x="36" y="340"/>
                    </a:lnTo>
                    <a:lnTo>
                      <a:pt x="41" y="330"/>
                    </a:lnTo>
                    <a:lnTo>
                      <a:pt x="51" y="316"/>
                    </a:lnTo>
                    <a:lnTo>
                      <a:pt x="56" y="306"/>
                    </a:lnTo>
                    <a:lnTo>
                      <a:pt x="71" y="277"/>
                    </a:lnTo>
                    <a:lnTo>
                      <a:pt x="87" y="249"/>
                    </a:lnTo>
                    <a:lnTo>
                      <a:pt x="102" y="215"/>
                    </a:lnTo>
                    <a:lnTo>
                      <a:pt x="117" y="182"/>
                    </a:lnTo>
                    <a:lnTo>
                      <a:pt x="132" y="148"/>
                    </a:lnTo>
                    <a:lnTo>
                      <a:pt x="142" y="115"/>
                    </a:lnTo>
                    <a:lnTo>
                      <a:pt x="158" y="86"/>
                    </a:lnTo>
                    <a:lnTo>
                      <a:pt x="173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3" y="24"/>
                    </a:lnTo>
                    <a:lnTo>
                      <a:pt x="203" y="15"/>
                    </a:lnTo>
                    <a:lnTo>
                      <a:pt x="208" y="10"/>
                    </a:lnTo>
                    <a:lnTo>
                      <a:pt x="219" y="5"/>
                    </a:lnTo>
                    <a:lnTo>
                      <a:pt x="224" y="0"/>
                    </a:lnTo>
                    <a:lnTo>
                      <a:pt x="229" y="0"/>
                    </a:lnTo>
                    <a:lnTo>
                      <a:pt x="234" y="0"/>
                    </a:lnTo>
                    <a:lnTo>
                      <a:pt x="244" y="5"/>
                    </a:lnTo>
                    <a:lnTo>
                      <a:pt x="249" y="10"/>
                    </a:lnTo>
                    <a:lnTo>
                      <a:pt x="254" y="15"/>
                    </a:lnTo>
                    <a:lnTo>
                      <a:pt x="259" y="24"/>
                    </a:lnTo>
                    <a:lnTo>
                      <a:pt x="264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90" y="86"/>
                    </a:lnTo>
                    <a:lnTo>
                      <a:pt x="300" y="115"/>
                    </a:lnTo>
                    <a:lnTo>
                      <a:pt x="310" y="148"/>
                    </a:lnTo>
                    <a:lnTo>
                      <a:pt x="320" y="182"/>
                    </a:lnTo>
                    <a:lnTo>
                      <a:pt x="330" y="215"/>
                    </a:lnTo>
                    <a:lnTo>
                      <a:pt x="345" y="249"/>
                    </a:lnTo>
                    <a:lnTo>
                      <a:pt x="356" y="277"/>
                    </a:lnTo>
                    <a:lnTo>
                      <a:pt x="366" y="306"/>
                    </a:lnTo>
                    <a:lnTo>
                      <a:pt x="371" y="316"/>
                    </a:lnTo>
                    <a:lnTo>
                      <a:pt x="376" y="330"/>
                    </a:lnTo>
                    <a:lnTo>
                      <a:pt x="386" y="340"/>
                    </a:lnTo>
                    <a:lnTo>
                      <a:pt x="391" y="344"/>
                    </a:lnTo>
                    <a:lnTo>
                      <a:pt x="396" y="354"/>
                    </a:lnTo>
                    <a:lnTo>
                      <a:pt x="401" y="359"/>
                    </a:lnTo>
                    <a:lnTo>
                      <a:pt x="411" y="363"/>
                    </a:lnTo>
                    <a:lnTo>
                      <a:pt x="416" y="36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94120" y="5064120"/>
                <a:ext cx="667800" cy="569880"/>
              </a:xfrm>
              <a:custGeom>
                <a:avLst/>
                <a:gdLst/>
                <a:ahLst/>
                <a:rect l="l" t="t" r="r" b="b"/>
                <a:pathLst>
                  <a:path w="421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1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7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7" y="115"/>
                    </a:lnTo>
                    <a:lnTo>
                      <a:pt x="163" y="82"/>
                    </a:lnTo>
                    <a:lnTo>
                      <a:pt x="178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8" y="24"/>
                    </a:lnTo>
                    <a:lnTo>
                      <a:pt x="203" y="15"/>
                    </a:lnTo>
                    <a:lnTo>
                      <a:pt x="213" y="10"/>
                    </a:lnTo>
                    <a:lnTo>
                      <a:pt x="218" y="5"/>
                    </a:lnTo>
                    <a:lnTo>
                      <a:pt x="224" y="0"/>
                    </a:lnTo>
                    <a:lnTo>
                      <a:pt x="234" y="0"/>
                    </a:lnTo>
                    <a:lnTo>
                      <a:pt x="239" y="0"/>
                    </a:lnTo>
                    <a:lnTo>
                      <a:pt x="244" y="5"/>
                    </a:lnTo>
                    <a:lnTo>
                      <a:pt x="254" y="10"/>
                    </a:lnTo>
                    <a:lnTo>
                      <a:pt x="259" y="15"/>
                    </a:lnTo>
                    <a:lnTo>
                      <a:pt x="264" y="24"/>
                    </a:lnTo>
                    <a:lnTo>
                      <a:pt x="269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95" y="82"/>
                    </a:lnTo>
                    <a:lnTo>
                      <a:pt x="305" y="115"/>
                    </a:lnTo>
                    <a:lnTo>
                      <a:pt x="315" y="144"/>
                    </a:lnTo>
                    <a:lnTo>
                      <a:pt x="325" y="177"/>
                    </a:lnTo>
                    <a:lnTo>
                      <a:pt x="335" y="211"/>
                    </a:lnTo>
                    <a:lnTo>
                      <a:pt x="345" y="244"/>
                    </a:lnTo>
                    <a:lnTo>
                      <a:pt x="361" y="273"/>
                    </a:lnTo>
                    <a:lnTo>
                      <a:pt x="371" y="301"/>
                    </a:lnTo>
                    <a:lnTo>
                      <a:pt x="376" y="316"/>
                    </a:lnTo>
                    <a:lnTo>
                      <a:pt x="381" y="325"/>
                    </a:lnTo>
                    <a:lnTo>
                      <a:pt x="386" y="335"/>
                    </a:lnTo>
                    <a:lnTo>
                      <a:pt x="396" y="344"/>
                    </a:lnTo>
                    <a:lnTo>
                      <a:pt x="401" y="349"/>
                    </a:lnTo>
                    <a:lnTo>
                      <a:pt x="406" y="354"/>
                    </a:lnTo>
                    <a:lnTo>
                      <a:pt x="416" y="359"/>
                    </a:lnTo>
                    <a:lnTo>
                      <a:pt x="421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33880" y="5064120"/>
                <a:ext cx="668160" cy="569880"/>
              </a:xfrm>
              <a:custGeom>
                <a:avLst/>
                <a:gdLst/>
                <a:ahLst/>
                <a:rect l="l" t="t" r="r" b="b"/>
                <a:pathLst>
                  <a:path w="421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0" y="349"/>
                    </a:lnTo>
                    <a:lnTo>
                      <a:pt x="31" y="344"/>
                    </a:lnTo>
                    <a:lnTo>
                      <a:pt x="36" y="335"/>
                    </a:lnTo>
                    <a:lnTo>
                      <a:pt x="41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6" y="244"/>
                    </a:lnTo>
                    <a:lnTo>
                      <a:pt x="102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7" y="115"/>
                    </a:lnTo>
                    <a:lnTo>
                      <a:pt x="162" y="82"/>
                    </a:lnTo>
                    <a:lnTo>
                      <a:pt x="178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8" y="24"/>
                    </a:lnTo>
                    <a:lnTo>
                      <a:pt x="203" y="15"/>
                    </a:lnTo>
                    <a:lnTo>
                      <a:pt x="213" y="10"/>
                    </a:lnTo>
                    <a:lnTo>
                      <a:pt x="218" y="5"/>
                    </a:lnTo>
                    <a:lnTo>
                      <a:pt x="223" y="0"/>
                    </a:lnTo>
                    <a:lnTo>
                      <a:pt x="234" y="0"/>
                    </a:lnTo>
                    <a:lnTo>
                      <a:pt x="239" y="0"/>
                    </a:lnTo>
                    <a:lnTo>
                      <a:pt x="244" y="5"/>
                    </a:lnTo>
                    <a:lnTo>
                      <a:pt x="254" y="10"/>
                    </a:lnTo>
                    <a:lnTo>
                      <a:pt x="259" y="15"/>
                    </a:lnTo>
                    <a:lnTo>
                      <a:pt x="264" y="24"/>
                    </a:lnTo>
                    <a:lnTo>
                      <a:pt x="269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94" y="82"/>
                    </a:lnTo>
                    <a:lnTo>
                      <a:pt x="305" y="115"/>
                    </a:lnTo>
                    <a:lnTo>
                      <a:pt x="315" y="144"/>
                    </a:lnTo>
                    <a:lnTo>
                      <a:pt x="325" y="177"/>
                    </a:lnTo>
                    <a:lnTo>
                      <a:pt x="335" y="211"/>
                    </a:lnTo>
                    <a:lnTo>
                      <a:pt x="345" y="244"/>
                    </a:lnTo>
                    <a:lnTo>
                      <a:pt x="360" y="273"/>
                    </a:lnTo>
                    <a:lnTo>
                      <a:pt x="371" y="301"/>
                    </a:lnTo>
                    <a:lnTo>
                      <a:pt x="376" y="316"/>
                    </a:lnTo>
                    <a:lnTo>
                      <a:pt x="381" y="325"/>
                    </a:lnTo>
                    <a:lnTo>
                      <a:pt x="386" y="335"/>
                    </a:lnTo>
                    <a:lnTo>
                      <a:pt x="396" y="344"/>
                    </a:lnTo>
                    <a:lnTo>
                      <a:pt x="401" y="349"/>
                    </a:lnTo>
                    <a:lnTo>
                      <a:pt x="406" y="354"/>
                    </a:lnTo>
                    <a:lnTo>
                      <a:pt x="416" y="359"/>
                    </a:lnTo>
                    <a:lnTo>
                      <a:pt x="421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40160" y="5064120"/>
                <a:ext cx="660240" cy="569880"/>
              </a:xfrm>
              <a:custGeom>
                <a:avLst/>
                <a:gdLst/>
                <a:ahLst/>
                <a:rect l="l" t="t" r="r" b="b"/>
                <a:pathLst>
                  <a:path w="416" h="359">
                    <a:moveTo>
                      <a:pt x="0" y="359"/>
                    </a:moveTo>
                    <a:lnTo>
                      <a:pt x="5" y="359"/>
                    </a:lnTo>
                    <a:lnTo>
                      <a:pt x="15" y="354"/>
                    </a:lnTo>
                    <a:lnTo>
                      <a:pt x="20" y="349"/>
                    </a:lnTo>
                    <a:lnTo>
                      <a:pt x="30" y="344"/>
                    </a:lnTo>
                    <a:lnTo>
                      <a:pt x="35" y="335"/>
                    </a:lnTo>
                    <a:lnTo>
                      <a:pt x="40" y="325"/>
                    </a:lnTo>
                    <a:lnTo>
                      <a:pt x="51" y="316"/>
                    </a:lnTo>
                    <a:lnTo>
                      <a:pt x="56" y="301"/>
                    </a:lnTo>
                    <a:lnTo>
                      <a:pt x="71" y="273"/>
                    </a:lnTo>
                    <a:lnTo>
                      <a:pt x="86" y="244"/>
                    </a:lnTo>
                    <a:lnTo>
                      <a:pt x="101" y="211"/>
                    </a:lnTo>
                    <a:lnTo>
                      <a:pt x="117" y="177"/>
                    </a:lnTo>
                    <a:lnTo>
                      <a:pt x="132" y="144"/>
                    </a:lnTo>
                    <a:lnTo>
                      <a:pt x="142" y="115"/>
                    </a:lnTo>
                    <a:lnTo>
                      <a:pt x="157" y="82"/>
                    </a:lnTo>
                    <a:lnTo>
                      <a:pt x="172" y="58"/>
                    </a:lnTo>
                    <a:lnTo>
                      <a:pt x="183" y="43"/>
                    </a:lnTo>
                    <a:lnTo>
                      <a:pt x="188" y="34"/>
                    </a:lnTo>
                    <a:lnTo>
                      <a:pt x="193" y="24"/>
                    </a:lnTo>
                    <a:lnTo>
                      <a:pt x="203" y="15"/>
                    </a:lnTo>
                    <a:lnTo>
                      <a:pt x="208" y="10"/>
                    </a:lnTo>
                    <a:lnTo>
                      <a:pt x="218" y="5"/>
                    </a:lnTo>
                    <a:lnTo>
                      <a:pt x="223" y="0"/>
                    </a:lnTo>
                    <a:lnTo>
                      <a:pt x="228" y="0"/>
                    </a:lnTo>
                    <a:lnTo>
                      <a:pt x="233" y="0"/>
                    </a:lnTo>
                    <a:lnTo>
                      <a:pt x="243" y="5"/>
                    </a:lnTo>
                    <a:lnTo>
                      <a:pt x="249" y="10"/>
                    </a:lnTo>
                    <a:lnTo>
                      <a:pt x="254" y="15"/>
                    </a:lnTo>
                    <a:lnTo>
                      <a:pt x="259" y="24"/>
                    </a:lnTo>
                    <a:lnTo>
                      <a:pt x="264" y="34"/>
                    </a:lnTo>
                    <a:lnTo>
                      <a:pt x="274" y="43"/>
                    </a:lnTo>
                    <a:lnTo>
                      <a:pt x="279" y="58"/>
                    </a:lnTo>
                    <a:lnTo>
                      <a:pt x="289" y="82"/>
                    </a:lnTo>
                    <a:lnTo>
                      <a:pt x="299" y="115"/>
                    </a:lnTo>
                    <a:lnTo>
                      <a:pt x="309" y="144"/>
                    </a:lnTo>
                    <a:lnTo>
                      <a:pt x="320" y="177"/>
                    </a:lnTo>
                    <a:lnTo>
                      <a:pt x="330" y="211"/>
                    </a:lnTo>
                    <a:lnTo>
                      <a:pt x="345" y="244"/>
                    </a:lnTo>
                    <a:lnTo>
                      <a:pt x="355" y="273"/>
                    </a:lnTo>
                    <a:lnTo>
                      <a:pt x="365" y="301"/>
                    </a:lnTo>
                    <a:lnTo>
                      <a:pt x="370" y="316"/>
                    </a:lnTo>
                    <a:lnTo>
                      <a:pt x="375" y="325"/>
                    </a:lnTo>
                    <a:lnTo>
                      <a:pt x="386" y="335"/>
                    </a:lnTo>
                    <a:lnTo>
                      <a:pt x="391" y="344"/>
                    </a:lnTo>
                    <a:lnTo>
                      <a:pt x="396" y="349"/>
                    </a:lnTo>
                    <a:lnTo>
                      <a:pt x="401" y="354"/>
                    </a:lnTo>
                    <a:lnTo>
                      <a:pt x="411" y="359"/>
                    </a:lnTo>
                    <a:lnTo>
                      <a:pt x="416" y="35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7316640" y="5703840"/>
              <a:ext cx="482760" cy="254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057400" y="1981080"/>
            <a:ext cx="617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iveaux mesuré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: 55dB(A) JOUR et 50 dB(A) NUI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Mesures Etat Ini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066680" y="2362320"/>
            <a:ext cx="7239240" cy="3373200"/>
            <a:chOff x="1066680" y="2362320"/>
            <a:chExt cx="7239240" cy="3373200"/>
          </a:xfrm>
        </p:grpSpPr>
        <p:sp>
          <p:nvSpPr>
            <p:cNvPr id="420" name=""/>
            <p:cNvSpPr/>
            <p:nvPr/>
          </p:nvSpPr>
          <p:spPr>
            <a:xfrm>
              <a:off x="1066680" y="2362320"/>
              <a:ext cx="762120" cy="2286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399960 h 2286000"/>
                <a:gd name="textAreaBottom" fmla="*/ 165744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474123"/>
                  <a:lnTo>
                    <a:pt x="13590" y="21061"/>
                  </a:lnTo>
                  <a:lnTo>
                    <a:pt x="21600" y="17280"/>
                  </a:lnTo>
                  <a:lnTo>
                    <a:pt x="13590" y="12421"/>
                  </a:lnTo>
                  <a:lnTo>
                    <a:pt x="13590" y="14581"/>
                  </a:lnTo>
                  <a:arcTo wR="21600" hR="7560" stAng="8325877" swAng="211668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3720" y="3886200"/>
              <a:ext cx="617220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Objectifs réglement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lon arrêté du 5mai 1995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JOUR : 60dB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UIT : 55dB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438280" y="2514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&gt; Zone d’ambiance sonore modéré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&lt;65 JOUR et &lt;60dB(A) NUI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paraison de vari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76520" y="2438280"/>
            <a:ext cx="61722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tude de tracé dans une band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300 m à l’intérieur du fuseau considé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alculs acoustiques simplifiés (tracés d’isoph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76520" y="4038480"/>
            <a:ext cx="617220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nées topograph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â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é en 3 dimensions du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76520" y="1219320"/>
            <a:ext cx="6172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èse de tr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uation la plus pessimiste en matière de bruit généré par le projet, soit la saturation acoustique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turation acoust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 saturation acoustique correspond au trafic qui génère le bruit maximal sur l'infrastructure. En effet, au-delà d'un certain débit, la vitesse baisse, donc le bruit n'augmente plus. Ce seuil correspond à 1000 véhicules par voies par heure, c'est à dire pour une 2X2 voies à un TMJA de       68 000 véhicu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jet : 2x2 vo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716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paraison de vari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295280" y="1219320"/>
            <a:ext cx="7315200" cy="24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èse Météor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e en compte des effets météo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météorologique de Strasbo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3249360" cy="29876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543640" y="3354480"/>
            <a:ext cx="3066840" cy="2955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2666880" y="6400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6400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Comparaison de vari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-1486080" y="-5284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carte_7_corrigée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915400" cy="5638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286000" y="380880"/>
            <a:ext cx="73152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s sans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134784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247760" y="-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247760" y="-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carte2 bis" descr=""/>
          <p:cNvPicPr/>
          <p:nvPr/>
        </p:nvPicPr>
        <p:blipFill>
          <a:blip r:embed="rId1"/>
          <a:srcRect l="12683" t="0" r="48692" b="30478"/>
          <a:stretch/>
        </p:blipFill>
        <p:spPr>
          <a:xfrm>
            <a:off x="4648320" y="1066680"/>
            <a:ext cx="4495680" cy="54104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-1347840" y="-52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carte3 bis" descr=""/>
          <p:cNvPicPr/>
          <p:nvPr/>
        </p:nvPicPr>
        <p:blipFill>
          <a:blip r:embed="rId2"/>
          <a:srcRect l="14600" t="0" r="46784" b="31710"/>
          <a:stretch/>
        </p:blipFill>
        <p:spPr>
          <a:xfrm>
            <a:off x="0" y="1066680"/>
            <a:ext cx="4572000" cy="5405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2096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76920" y="609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de la solution reten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0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914400" y="1565280"/>
            <a:ext cx="7705800" cy="5292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16002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èses de tra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APS </a:t>
            </a:r>
            <a:br>
              <a:rPr sz="4000"/>
            </a:br>
            <a:r>
              <a:rPr b="1" lang="fr-FR" sz="4000" spc="-1" strike="noStrike">
                <a:solidFill>
                  <a:srgbClr val="3333cc"/>
                </a:solidFill>
                <a:latin typeface="Times New Roman"/>
              </a:rPr>
              <a:t>Etude des 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857160" y="-12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Ernols_écrans=4+3mT" descr=""/>
          <p:cNvPicPr/>
          <p:nvPr/>
        </p:nvPicPr>
        <p:blipFill>
          <a:blip r:embed="rId1"/>
          <a:srcRect l="27720" t="0" r="0" b="20670"/>
          <a:stretch/>
        </p:blipFill>
        <p:spPr>
          <a:xfrm>
            <a:off x="1449360" y="1676520"/>
            <a:ext cx="7008840" cy="50338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505320" y="6172200"/>
            <a:ext cx="228600" cy="2286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2590920"/>
            <a:ext cx="228600" cy="22860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1828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ran de 3 mètres de 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-1390680" y="-4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Vend château_écran_h=4mSA_L=950m" descr=""/>
          <p:cNvPicPr/>
          <p:nvPr/>
        </p:nvPicPr>
        <p:blipFill>
          <a:blip r:embed="rId1"/>
          <a:srcRect l="8308" t="0" r="0" b="19719"/>
          <a:stretch/>
        </p:blipFill>
        <p:spPr>
          <a:xfrm>
            <a:off x="0" y="990720"/>
            <a:ext cx="9144000" cy="52369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572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ran de 4 mètres de 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476360" y="53352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2280" y="2362320"/>
            <a:ext cx="844056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es niveaux réglementaires seront obtenus en priorité par un traitement de l'infrastructure ou de ses abord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cr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e revêtement de chaussée n’est pas considéré comme un moyen de protection à part entière : apporte un « plus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inon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Traitement des faç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n urbain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possibilité d’aménagements particu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58960" y="3200400"/>
            <a:ext cx="1125360" cy="38088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8960" y="4876920"/>
            <a:ext cx="1125360" cy="38088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28800" y="5715000"/>
            <a:ext cx="1125360" cy="38088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1990800"/>
            <a:ext cx="876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coustique = microvariations de la pression de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60600" y="2787480"/>
            <a:ext cx="4309920" cy="23702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165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Notions fondamentales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Génération des ondes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447920" y="0"/>
            <a:ext cx="80769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Vérification aprè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ise en servi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144792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Mesures en faç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47920" y="1981080"/>
            <a:ext cx="6365880" cy="4541760"/>
            <a:chOff x="1447920" y="1981080"/>
            <a:chExt cx="6365880" cy="4541760"/>
          </a:xfrm>
        </p:grpSpPr>
        <p:pic>
          <p:nvPicPr>
            <p:cNvPr id="466" name="1997-0972-2322-68" descr=""/>
            <p:cNvPicPr/>
            <p:nvPr/>
          </p:nvPicPr>
          <p:blipFill>
            <a:blip r:embed="rId1"/>
            <a:stretch/>
          </p:blipFill>
          <p:spPr>
            <a:xfrm>
              <a:off x="1447920" y="1996200"/>
              <a:ext cx="2823840" cy="45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1997-0973-2322-68" descr=""/>
            <p:cNvPicPr/>
            <p:nvPr/>
          </p:nvPicPr>
          <p:blipFill>
            <a:blip r:embed="rId2"/>
            <a:stretch/>
          </p:blipFill>
          <p:spPr>
            <a:xfrm>
              <a:off x="4271760" y="1981080"/>
              <a:ext cx="3542040" cy="453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 rot="2048400">
            <a:off x="3168360" y="3646440"/>
            <a:ext cx="3338280" cy="1486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362320" y="45720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re exemple : vérification après mise e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1600" y="152388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- Mesures réception éc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260440"/>
            <a:ext cx="9144000" cy="459756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1673280" y="2432160"/>
            <a:ext cx="6737400" cy="3163680"/>
            <a:chOff x="1673280" y="2432160"/>
            <a:chExt cx="6737400" cy="3163680"/>
          </a:xfrm>
        </p:grpSpPr>
        <p:sp>
          <p:nvSpPr>
            <p:cNvPr id="473" name=""/>
            <p:cNvSpPr/>
            <p:nvPr/>
          </p:nvSpPr>
          <p:spPr>
            <a:xfrm>
              <a:off x="1673280" y="2432160"/>
              <a:ext cx="1606320" cy="433440"/>
            </a:xfrm>
            <a:prstGeom prst="borderCallout1">
              <a:avLst>
                <a:gd name="adj1" fmla="val 18750"/>
                <a:gd name="adj2" fmla="val -8333"/>
                <a:gd name="adj3" fmla="val 109523"/>
                <a:gd name="adj4" fmla="val -68875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bsor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04000" y="2647800"/>
              <a:ext cx="1606680" cy="433440"/>
            </a:xfrm>
            <a:prstGeom prst="borderCallout1">
              <a:avLst>
                <a:gd name="adj1" fmla="val 18750"/>
                <a:gd name="adj2" fmla="val -8333"/>
                <a:gd name="adj3" fmla="val 302199"/>
                <a:gd name="adj4" fmla="val -73416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Absor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73280" y="4075200"/>
              <a:ext cx="1606320" cy="433440"/>
            </a:xfrm>
            <a:prstGeom prst="borderCallout1">
              <a:avLst>
                <a:gd name="adj1" fmla="val 18750"/>
                <a:gd name="adj2" fmla="val -8333"/>
                <a:gd name="adj3" fmla="val -251282"/>
                <a:gd name="adj4" fmla="val -60277"/>
              </a:avLst>
            </a:prstGeom>
            <a:solidFill>
              <a:srgbClr val="ff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9600" y="3081240"/>
              <a:ext cx="1606680" cy="433440"/>
            </a:xfrm>
            <a:prstGeom prst="borderCallout1">
              <a:avLst>
                <a:gd name="adj1" fmla="val 18750"/>
                <a:gd name="adj2" fmla="val -8333"/>
                <a:gd name="adj3" fmla="val -3296"/>
                <a:gd name="adj4" fmla="val -120949"/>
              </a:avLst>
            </a:prstGeom>
            <a:solidFill>
              <a:srgbClr val="ff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04000" y="5162400"/>
              <a:ext cx="1606680" cy="433440"/>
            </a:xfrm>
            <a:prstGeom prst="borderCallout1">
              <a:avLst>
                <a:gd name="adj1" fmla="val 18750"/>
                <a:gd name="adj2" fmla="val -8333"/>
                <a:gd name="adj3" fmla="val -247986"/>
                <a:gd name="adj4" fmla="val -63833"/>
              </a:avLst>
            </a:prstGeom>
            <a:solidFill>
              <a:srgbClr val="ff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100_0010" descr=""/>
          <p:cNvPicPr/>
          <p:nvPr/>
        </p:nvPicPr>
        <p:blipFill>
          <a:blip r:embed="rId1"/>
          <a:stretch/>
        </p:blipFill>
        <p:spPr>
          <a:xfrm>
            <a:off x="217440" y="1565280"/>
            <a:ext cx="4354560" cy="32623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479" name="100_0016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72000" y="932040"/>
            <a:ext cx="4572000" cy="34225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480" name="100_0001" descr=""/>
          <p:cNvPicPr/>
          <p:nvPr/>
        </p:nvPicPr>
        <p:blipFill>
          <a:blip r:embed="rId3"/>
          <a:stretch/>
        </p:blipFill>
        <p:spPr>
          <a:xfrm>
            <a:off x="3033720" y="4078440"/>
            <a:ext cx="3606840" cy="25430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209680" y="53352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re exemple : vérification après mise e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71600" y="152388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- Mesures isolation de faç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façade%202" descr=""/>
          <p:cNvPicPr/>
          <p:nvPr/>
        </p:nvPicPr>
        <p:blipFill>
          <a:blip r:embed="rId1"/>
          <a:stretch/>
        </p:blipFill>
        <p:spPr>
          <a:xfrm>
            <a:off x="1523880" y="2352600"/>
            <a:ext cx="66452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62120" y="30492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U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57240" y="3886200"/>
            <a:ext cx="8178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études dont le niveau de précision dépend de l’étape considér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65160" y="2514600"/>
            <a:ext cx="8178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èses d‘entrées très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771640" y="2281320"/>
            <a:ext cx="3502080" cy="136368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03720" y="2649600"/>
            <a:ext cx="190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cc0000"/>
                </a:solidFill>
                <a:latin typeface="Arial Narrow"/>
              </a:rPr>
              <a:t>Lp = 10 lo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79880" y="2344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p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03920" y="2878200"/>
            <a:ext cx="1143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 Narrow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81680" y="287820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103560" y="4086360"/>
            <a:ext cx="4689360" cy="1667520"/>
            <a:chOff x="3103560" y="4086360"/>
            <a:chExt cx="4689360" cy="1667520"/>
          </a:xfrm>
        </p:grpSpPr>
        <p:sp>
          <p:nvSpPr>
            <p:cNvPr id="173" name=""/>
            <p:cNvSpPr/>
            <p:nvPr/>
          </p:nvSpPr>
          <p:spPr>
            <a:xfrm>
              <a:off x="3103560" y="4086360"/>
              <a:ext cx="4689360" cy="12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Lp</a:t>
              </a:r>
              <a:r>
                <a:rPr b="1" lang="fr-FR" sz="2400" spc="-1" strike="noStrike">
                  <a:solidFill>
                    <a:srgbClr val="ff6600"/>
                  </a:solidFill>
                  <a:latin typeface="Arial Narrow"/>
                  <a:ea typeface="Arial"/>
                </a:rPr>
                <a:t>	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exprimé en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p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: pression acoust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48880" y="5245200"/>
              <a:ext cx="1846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p</a:t>
              </a:r>
              <a:r>
                <a:rPr b="0" lang="fr-FR" sz="2400" spc="-1" strike="noStrike" baseline="-25000">
                  <a:solidFill>
                    <a:srgbClr val="cc0000"/>
                  </a:solidFill>
                  <a:latin typeface="Arial Narrow"/>
                  <a:ea typeface="Arial"/>
                </a:rPr>
                <a:t>o</a:t>
              </a:r>
              <a:r>
                <a:rPr b="0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 = 2 x 10</a:t>
              </a:r>
              <a:r>
                <a:rPr b="0" lang="fr-FR" sz="2400" spc="-1" strike="noStrike" baseline="30000">
                  <a:solidFill>
                    <a:srgbClr val="cc0000"/>
                  </a:solidFill>
                  <a:latin typeface="Arial Narrow"/>
                  <a:ea typeface="Arial"/>
                </a:rPr>
                <a:t>-5 </a:t>
              </a:r>
              <a:r>
                <a:rPr b="0" lang="fr-FR" sz="2400" spc="-1" strike="noStrike">
                  <a:solidFill>
                    <a:srgbClr val="cc0000"/>
                  </a:solidFill>
                  <a:latin typeface="Arial Narrow"/>
                  <a:ea typeface="Arial"/>
                </a:rPr>
                <a:t>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176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Notions fondamentales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Niveau de press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4267080" y="1752480"/>
            <a:ext cx="4343400" cy="3922560"/>
            <a:chOff x="4267080" y="1752480"/>
            <a:chExt cx="4343400" cy="3922560"/>
          </a:xfrm>
        </p:grpSpPr>
        <p:sp>
          <p:nvSpPr>
            <p:cNvPr id="179" name=""/>
            <p:cNvSpPr/>
            <p:nvPr/>
          </p:nvSpPr>
          <p:spPr>
            <a:xfrm>
              <a:off x="4267080" y="1752480"/>
              <a:ext cx="43434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 u="sng">
                  <a:solidFill>
                    <a:srgbClr val="3333cc"/>
                  </a:solidFill>
                  <a:uFillTx/>
                  <a:latin typeface="Arial Narrow"/>
                  <a:ea typeface="Arial"/>
                </a:rPr>
                <a:t>raison physiolog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La sensation auditive varie comme le logarithme de l’exci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135400" y="3475080"/>
              <a:ext cx="2679480" cy="21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"/>
          <p:cNvSpPr/>
          <p:nvPr/>
        </p:nvSpPr>
        <p:spPr>
          <a:xfrm>
            <a:off x="4195800" y="2592360"/>
            <a:ext cx="0" cy="31989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1828800"/>
            <a:ext cx="4108320" cy="4750560"/>
            <a:chOff x="0" y="1828800"/>
            <a:chExt cx="4108320" cy="4750560"/>
          </a:xfrm>
        </p:grpSpPr>
        <p:sp>
          <p:nvSpPr>
            <p:cNvPr id="183" name=""/>
            <p:cNvSpPr/>
            <p:nvPr/>
          </p:nvSpPr>
          <p:spPr>
            <a:xfrm>
              <a:off x="0" y="1828800"/>
              <a:ext cx="410832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 u="sng">
                  <a:solidFill>
                    <a:srgbClr val="3333cc"/>
                  </a:solidFill>
                  <a:uFillTx/>
                  <a:latin typeface="Arial Narrow"/>
                  <a:ea typeface="Arial"/>
                </a:rPr>
                <a:t>raison pratique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grande dynamique de l’oreille huma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0" y="2997000"/>
              <a:ext cx="3276720" cy="3582360"/>
              <a:chOff x="0" y="2997000"/>
              <a:chExt cx="3276720" cy="35823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3301920"/>
                <a:ext cx="60948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14400" y="2997000"/>
                <a:ext cx="1066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600" spc="-1" strike="noStrike">
                    <a:solidFill>
                      <a:srgbClr val="339966"/>
                    </a:solidFill>
                    <a:latin typeface="Arial Narrow"/>
                  </a:rPr>
                  <a:t>pres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90920" y="3301920"/>
                <a:ext cx="382320" cy="3201840"/>
              </a:xfrm>
              <a:custGeom>
                <a:avLst/>
                <a:gdLst/>
                <a:ahLst/>
                <a:rect l="l" t="t" r="r" b="b"/>
                <a:pathLst>
                  <a:path w="241" h="2017">
                    <a:moveTo>
                      <a:pt x="0" y="218"/>
                    </a:moveTo>
                    <a:lnTo>
                      <a:pt x="69" y="218"/>
                    </a:lnTo>
                    <a:lnTo>
                      <a:pt x="69" y="2016"/>
                    </a:lnTo>
                    <a:lnTo>
                      <a:pt x="171" y="2016"/>
                    </a:lnTo>
                    <a:lnTo>
                      <a:pt x="171" y="218"/>
                    </a:lnTo>
                    <a:lnTo>
                      <a:pt x="240" y="218"/>
                    </a:lnTo>
                    <a:lnTo>
                      <a:pt x="12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ff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43000" y="3301920"/>
                <a:ext cx="382680" cy="3201840"/>
              </a:xfrm>
              <a:custGeom>
                <a:avLst/>
                <a:gdLst/>
                <a:ahLst/>
                <a:rect l="l" t="t" r="r" b="b"/>
                <a:pathLst>
                  <a:path w="241" h="2017">
                    <a:moveTo>
                      <a:pt x="0" y="218"/>
                    </a:moveTo>
                    <a:lnTo>
                      <a:pt x="69" y="218"/>
                    </a:lnTo>
                    <a:lnTo>
                      <a:pt x="69" y="2016"/>
                    </a:lnTo>
                    <a:lnTo>
                      <a:pt x="171" y="2016"/>
                    </a:lnTo>
                    <a:lnTo>
                      <a:pt x="171" y="218"/>
                    </a:lnTo>
                    <a:lnTo>
                      <a:pt x="240" y="218"/>
                    </a:lnTo>
                    <a:lnTo>
                      <a:pt x="12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ff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62120" y="2997000"/>
                <a:ext cx="533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1600" spc="-1" strike="noStrike">
                    <a:solidFill>
                      <a:srgbClr val="339966"/>
                    </a:solidFill>
                    <a:latin typeface="Arial Narrow"/>
                  </a:rPr>
                  <a:t>d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914400" y="6273720"/>
                <a:ext cx="1066680" cy="305640"/>
                <a:chOff x="914400" y="6273720"/>
                <a:chExt cx="1066680" cy="3056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914400" y="6273720"/>
                  <a:ext cx="830160" cy="287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914400" y="6273720"/>
                  <a:ext cx="10666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Arial Narrow"/>
                    </a:rPr>
                    <a:t>2x10</a:t>
                  </a:r>
                  <a:r>
                    <a:rPr b="1" lang="fr-FR" sz="1400" spc="-1" strike="noStrike" baseline="30000">
                      <a:solidFill>
                        <a:srgbClr val="000000"/>
                      </a:solidFill>
                      <a:latin typeface="Arial Narrow"/>
                    </a:rPr>
                    <a:t>-5</a:t>
                  </a:r>
                  <a:r>
                    <a:rPr b="1" lang="fr-FR" sz="1400" spc="-1" strike="noStrike">
                      <a:solidFill>
                        <a:srgbClr val="000000"/>
                      </a:solidFill>
                      <a:latin typeface="Arial Narrow"/>
                    </a:rPr>
                    <a:t> P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990720" y="3666960"/>
                <a:ext cx="838080" cy="305640"/>
                <a:chOff x="990720" y="3666960"/>
                <a:chExt cx="838080" cy="3056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990720" y="3666960"/>
                  <a:ext cx="733320" cy="29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990720" y="3666960"/>
                  <a:ext cx="8380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Arial Narrow"/>
                    </a:rPr>
                    <a:t>200 P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2362320" y="3682800"/>
                <a:ext cx="838080" cy="305640"/>
                <a:chOff x="2362320" y="3682800"/>
                <a:chExt cx="838080" cy="305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362320" y="3682800"/>
                  <a:ext cx="733320" cy="29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62320" y="3682800"/>
                  <a:ext cx="8380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1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438280" y="6273720"/>
                <a:ext cx="838440" cy="305640"/>
                <a:chOff x="2438280" y="6273720"/>
                <a:chExt cx="838440" cy="3056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438280" y="6273720"/>
                  <a:ext cx="733680" cy="296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38280" y="6273720"/>
                  <a:ext cx="8384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3886200" y="586728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Le dB permet d’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l’unité acoustique à la sensation hum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204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</a:t>
              </a:r>
              <a:br>
                <a:rPr sz="4400"/>
              </a:b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Pourquoi le Décibel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207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Cumul des niveaux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84280" y="2449440"/>
            <a:ext cx="1440720" cy="1260360"/>
            <a:chOff x="584280" y="2449440"/>
            <a:chExt cx="1440720" cy="126036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584280" y="3263760"/>
              <a:ext cx="12711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41160" y="244944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dB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060720" y="2449440"/>
            <a:ext cx="1651680" cy="1260360"/>
            <a:chOff x="3060720" y="2449440"/>
            <a:chExt cx="1651680" cy="126036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060720" y="3232080"/>
              <a:ext cx="135648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328560" y="244944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 dB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344320" y="244800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25840" y="2449440"/>
            <a:ext cx="359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934240" y="2279520"/>
            <a:ext cx="1787040" cy="1616040"/>
            <a:chOff x="5934240" y="2279520"/>
            <a:chExt cx="1787040" cy="1616040"/>
          </a:xfrm>
        </p:grpSpPr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5934240" y="2985840"/>
              <a:ext cx="1365480" cy="4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6379200" y="3425760"/>
              <a:ext cx="13420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366600" y="227952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dB(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84200" y="1944720"/>
            <a:ext cx="7583400" cy="2919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ublement de la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8600" y="4017960"/>
            <a:ext cx="7740360" cy="2251800"/>
            <a:chOff x="498600" y="4017960"/>
            <a:chExt cx="7740360" cy="2251800"/>
          </a:xfrm>
        </p:grpSpPr>
        <p:grpSp>
          <p:nvGrpSpPr>
            <p:cNvPr id="223" name=""/>
            <p:cNvGrpSpPr/>
            <p:nvPr/>
          </p:nvGrpSpPr>
          <p:grpSpPr>
            <a:xfrm>
              <a:off x="708120" y="4952880"/>
              <a:ext cx="1440720" cy="1316520"/>
              <a:chOff x="708120" y="4952880"/>
              <a:chExt cx="1440720" cy="1316520"/>
            </a:xfrm>
          </p:grpSpPr>
          <p:pic>
            <p:nvPicPr>
              <p:cNvPr id="2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8120" y="4952880"/>
                <a:ext cx="1271520" cy="44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765000" y="5814720"/>
                <a:ext cx="138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 dB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673360" y="4653000"/>
              <a:ext cx="2471760" cy="1616400"/>
              <a:chOff x="2673360" y="4653000"/>
              <a:chExt cx="2471760" cy="16164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673360" y="4653000"/>
                <a:ext cx="2471760" cy="80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3649320" y="5814720"/>
                <a:ext cx="1383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 dB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382480" y="581508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80360" y="581508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767560" y="4572000"/>
              <a:ext cx="2471400" cy="1697400"/>
              <a:chOff x="5767560" y="4572000"/>
              <a:chExt cx="2471400" cy="1697400"/>
            </a:xfrm>
          </p:grpSpPr>
          <p:sp>
            <p:nvSpPr>
              <p:cNvPr id="232" name=""/>
              <p:cNvSpPr/>
              <p:nvPr/>
            </p:nvSpPr>
            <p:spPr>
              <a:xfrm>
                <a:off x="6883920" y="5814720"/>
                <a:ext cx="1298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dB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123240" y="4572000"/>
                <a:ext cx="1271520" cy="44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67560" y="4805280"/>
                <a:ext cx="2471400" cy="80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" name=""/>
            <p:cNvSpPr/>
            <p:nvPr/>
          </p:nvSpPr>
          <p:spPr>
            <a:xfrm>
              <a:off x="498600" y="4017960"/>
              <a:ext cx="7669080" cy="31896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ffet de mas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237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 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Le dB(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33320" y="-4675320"/>
            <a:ext cx="8876160" cy="9788400"/>
            <a:chOff x="733320" y="-4675320"/>
            <a:chExt cx="8876160" cy="9788400"/>
          </a:xfrm>
        </p:grpSpPr>
        <p:grpSp>
          <p:nvGrpSpPr>
            <p:cNvPr id="240" name=""/>
            <p:cNvGrpSpPr/>
            <p:nvPr/>
          </p:nvGrpSpPr>
          <p:grpSpPr>
            <a:xfrm>
              <a:off x="4394880" y="-4675320"/>
              <a:ext cx="5214600" cy="9788400"/>
              <a:chOff x="4394880" y="-4675320"/>
              <a:chExt cx="5214600" cy="9788400"/>
            </a:xfrm>
          </p:grpSpPr>
          <p:sp>
            <p:nvSpPr>
              <p:cNvPr id="241" name=""/>
              <p:cNvSpPr/>
              <p:nvPr/>
            </p:nvSpPr>
            <p:spPr>
              <a:xfrm>
                <a:off x="4616640" y="1716840"/>
                <a:ext cx="3949200" cy="339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96000">
                <a:off x="4522680" y="-4607640"/>
                <a:ext cx="4958640" cy="923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34" y="1486"/>
                    </a:moveTo>
                    <a:arcTo wR="10800" hR="10800" stAng="-7224420" swAng="43965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34" y="1486"/>
                    </a:moveTo>
                    <a:arcTo wR="10800" hR="10800" stAng="-7224420" swAng="4396546"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01840" y="4696200"/>
                <a:ext cx="312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5220720" y="4696200"/>
                <a:ext cx="2782080" cy="67680"/>
                <a:chOff x="5220720" y="4696200"/>
                <a:chExt cx="2782080" cy="676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332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78348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09632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15852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0028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22072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4710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880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4568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721640" y="4696200"/>
                  <a:ext cx="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4991040" y="4771440"/>
                <a:ext cx="479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1,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37920" y="478908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6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7764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7272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7176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41640" y="478908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10080" y="47890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96520" y="47890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78040" y="47714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62080" y="4787280"/>
                <a:ext cx="43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4600080" y="2082600"/>
                <a:ext cx="454320" cy="2715480"/>
                <a:chOff x="4600080" y="2082600"/>
                <a:chExt cx="454320" cy="2715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053320" y="2082600"/>
                  <a:ext cx="0" cy="261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980240" y="28634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980240" y="30668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980240" y="32702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980240" y="34736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980240" y="36770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0240" y="38818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980240" y="40852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980240" y="42886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80240" y="44920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980240" y="469548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637160" y="416916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7880" y="45216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637160" y="37404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37160" y="396612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637160" y="353844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637160" y="437292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637160" y="292536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637160" y="31302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81680" y="262800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00080" y="252036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637160" y="271188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37160" y="3333600"/>
                  <a:ext cx="351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981680" y="222120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00080" y="211032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981680" y="2424240"/>
                  <a:ext cx="72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00080" y="2313720"/>
                  <a:ext cx="436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5220720" y="2150280"/>
                <a:ext cx="3086280" cy="322560"/>
              </a:xfrm>
              <a:custGeom>
                <a:avLst/>
                <a:gdLst/>
                <a:ahLst/>
                <a:rect l="l" t="t" r="r" b="b"/>
                <a:pathLst>
                  <a:path w="4740" h="456">
                    <a:moveTo>
                      <a:pt x="0" y="60"/>
                    </a:moveTo>
                    <a:cubicBezTo>
                      <a:pt x="187" y="122"/>
                      <a:pt x="463" y="84"/>
                      <a:pt x="672" y="96"/>
                    </a:cubicBezTo>
                    <a:cubicBezTo>
                      <a:pt x="989" y="61"/>
                      <a:pt x="1300" y="98"/>
                      <a:pt x="1620" y="108"/>
                    </a:cubicBezTo>
                    <a:cubicBezTo>
                      <a:pt x="1749" y="122"/>
                      <a:pt x="1891" y="142"/>
                      <a:pt x="2016" y="180"/>
                    </a:cubicBezTo>
                    <a:cubicBezTo>
                      <a:pt x="2075" y="198"/>
                      <a:pt x="2109" y="217"/>
                      <a:pt x="2160" y="240"/>
                    </a:cubicBezTo>
                    <a:cubicBezTo>
                      <a:pt x="2216" y="265"/>
                      <a:pt x="2281" y="280"/>
                      <a:pt x="2340" y="300"/>
                    </a:cubicBezTo>
                    <a:cubicBezTo>
                      <a:pt x="2411" y="324"/>
                      <a:pt x="2483" y="354"/>
                      <a:pt x="2556" y="372"/>
                    </a:cubicBezTo>
                    <a:cubicBezTo>
                      <a:pt x="2616" y="387"/>
                      <a:pt x="2675" y="410"/>
                      <a:pt x="2736" y="420"/>
                    </a:cubicBezTo>
                    <a:cubicBezTo>
                      <a:pt x="2808" y="432"/>
                      <a:pt x="2880" y="442"/>
                      <a:pt x="2952" y="456"/>
                    </a:cubicBezTo>
                    <a:cubicBezTo>
                      <a:pt x="3117" y="447"/>
                      <a:pt x="3204" y="444"/>
                      <a:pt x="3348" y="396"/>
                    </a:cubicBezTo>
                    <a:cubicBezTo>
                      <a:pt x="3372" y="388"/>
                      <a:pt x="3399" y="386"/>
                      <a:pt x="3420" y="372"/>
                    </a:cubicBezTo>
                    <a:cubicBezTo>
                      <a:pt x="3580" y="265"/>
                      <a:pt x="3343" y="419"/>
                      <a:pt x="3492" y="336"/>
                    </a:cubicBezTo>
                    <a:cubicBezTo>
                      <a:pt x="3604" y="274"/>
                      <a:pt x="3700" y="196"/>
                      <a:pt x="3816" y="144"/>
                    </a:cubicBezTo>
                    <a:cubicBezTo>
                      <a:pt x="4027" y="50"/>
                      <a:pt x="4248" y="14"/>
                      <a:pt x="4476" y="0"/>
                    </a:cubicBezTo>
                    <a:cubicBezTo>
                      <a:pt x="4564" y="4"/>
                      <a:pt x="4740" y="12"/>
                      <a:pt x="4740" y="12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97400" y="1798200"/>
                <a:ext cx="21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uil  de douleu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31840" y="3089160"/>
                <a:ext cx="2030760" cy="859320"/>
              </a:xfrm>
              <a:custGeom>
                <a:avLst/>
                <a:gdLst/>
                <a:ahLst/>
                <a:rect l="l" t="t" r="r" b="b"/>
                <a:pathLst>
                  <a:path w="3017" h="1206">
                    <a:moveTo>
                      <a:pt x="0" y="775"/>
                    </a:moveTo>
                    <a:cubicBezTo>
                      <a:pt x="24" y="790"/>
                      <a:pt x="6" y="896"/>
                      <a:pt x="30" y="911"/>
                    </a:cubicBezTo>
                    <a:cubicBezTo>
                      <a:pt x="43" y="920"/>
                      <a:pt x="55" y="931"/>
                      <a:pt x="70" y="937"/>
                    </a:cubicBezTo>
                    <a:cubicBezTo>
                      <a:pt x="96" y="948"/>
                      <a:pt x="297" y="951"/>
                      <a:pt x="498" y="924"/>
                    </a:cubicBezTo>
                    <a:cubicBezTo>
                      <a:pt x="1008" y="902"/>
                      <a:pt x="1168" y="923"/>
                      <a:pt x="1678" y="911"/>
                    </a:cubicBezTo>
                    <a:cubicBezTo>
                      <a:pt x="1763" y="915"/>
                      <a:pt x="1848" y="917"/>
                      <a:pt x="1932" y="924"/>
                    </a:cubicBezTo>
                    <a:cubicBezTo>
                      <a:pt x="1992" y="929"/>
                      <a:pt x="2080" y="965"/>
                      <a:pt x="2133" y="978"/>
                    </a:cubicBezTo>
                    <a:cubicBezTo>
                      <a:pt x="2201" y="995"/>
                      <a:pt x="2268" y="1023"/>
                      <a:pt x="2334" y="1045"/>
                    </a:cubicBezTo>
                    <a:cubicBezTo>
                      <a:pt x="2361" y="1054"/>
                      <a:pt x="2414" y="1071"/>
                      <a:pt x="2414" y="1071"/>
                    </a:cubicBezTo>
                    <a:cubicBezTo>
                      <a:pt x="2539" y="1153"/>
                      <a:pt x="2766" y="1179"/>
                      <a:pt x="2910" y="1192"/>
                    </a:cubicBezTo>
                    <a:cubicBezTo>
                      <a:pt x="2937" y="1188"/>
                      <a:pt x="2985" y="1206"/>
                      <a:pt x="2990" y="1179"/>
                    </a:cubicBezTo>
                    <a:cubicBezTo>
                      <a:pt x="3017" y="1029"/>
                      <a:pt x="3014" y="831"/>
                      <a:pt x="2923" y="696"/>
                    </a:cubicBezTo>
                    <a:cubicBezTo>
                      <a:pt x="2909" y="652"/>
                      <a:pt x="2904" y="604"/>
                      <a:pt x="2883" y="562"/>
                    </a:cubicBezTo>
                    <a:cubicBezTo>
                      <a:pt x="2862" y="519"/>
                      <a:pt x="2819" y="487"/>
                      <a:pt x="2803" y="442"/>
                    </a:cubicBezTo>
                    <a:cubicBezTo>
                      <a:pt x="2784" y="387"/>
                      <a:pt x="2801" y="410"/>
                      <a:pt x="2749" y="375"/>
                    </a:cubicBezTo>
                    <a:cubicBezTo>
                      <a:pt x="2693" y="292"/>
                      <a:pt x="2593" y="249"/>
                      <a:pt x="2508" y="201"/>
                    </a:cubicBezTo>
                    <a:cubicBezTo>
                      <a:pt x="2481" y="186"/>
                      <a:pt x="2359" y="110"/>
                      <a:pt x="2347" y="107"/>
                    </a:cubicBezTo>
                    <a:cubicBezTo>
                      <a:pt x="2290" y="93"/>
                      <a:pt x="2226" y="80"/>
                      <a:pt x="2173" y="53"/>
                    </a:cubicBezTo>
                    <a:cubicBezTo>
                      <a:pt x="2110" y="22"/>
                      <a:pt x="2088" y="12"/>
                      <a:pt x="2013" y="0"/>
                    </a:cubicBezTo>
                    <a:cubicBezTo>
                      <a:pt x="1861" y="4"/>
                      <a:pt x="1709" y="5"/>
                      <a:pt x="1557" y="13"/>
                    </a:cubicBezTo>
                    <a:cubicBezTo>
                      <a:pt x="1506" y="16"/>
                      <a:pt x="1429" y="52"/>
                      <a:pt x="1383" y="67"/>
                    </a:cubicBezTo>
                    <a:cubicBezTo>
                      <a:pt x="1370" y="71"/>
                      <a:pt x="1343" y="80"/>
                      <a:pt x="1343" y="80"/>
                    </a:cubicBezTo>
                    <a:cubicBezTo>
                      <a:pt x="1297" y="111"/>
                      <a:pt x="1235" y="143"/>
                      <a:pt x="1182" y="160"/>
                    </a:cubicBezTo>
                    <a:cubicBezTo>
                      <a:pt x="1141" y="188"/>
                      <a:pt x="1093" y="221"/>
                      <a:pt x="1048" y="241"/>
                    </a:cubicBezTo>
                    <a:cubicBezTo>
                      <a:pt x="960" y="281"/>
                      <a:pt x="859" y="303"/>
                      <a:pt x="767" y="335"/>
                    </a:cubicBezTo>
                    <a:cubicBezTo>
                      <a:pt x="726" y="349"/>
                      <a:pt x="686" y="384"/>
                      <a:pt x="646" y="402"/>
                    </a:cubicBezTo>
                    <a:cubicBezTo>
                      <a:pt x="586" y="429"/>
                      <a:pt x="529" y="437"/>
                      <a:pt x="472" y="469"/>
                    </a:cubicBezTo>
                    <a:cubicBezTo>
                      <a:pt x="420" y="498"/>
                      <a:pt x="366" y="513"/>
                      <a:pt x="311" y="536"/>
                    </a:cubicBezTo>
                    <a:cubicBezTo>
                      <a:pt x="293" y="544"/>
                      <a:pt x="275" y="552"/>
                      <a:pt x="258" y="562"/>
                    </a:cubicBezTo>
                    <a:cubicBezTo>
                      <a:pt x="244" y="570"/>
                      <a:pt x="162" y="597"/>
                      <a:pt x="147" y="604"/>
                    </a:cubicBezTo>
                    <a:cubicBezTo>
                      <a:pt x="127" y="613"/>
                      <a:pt x="66" y="633"/>
                      <a:pt x="39" y="661"/>
                    </a:cubicBezTo>
                    <a:cubicBezTo>
                      <a:pt x="15" y="689"/>
                      <a:pt x="11" y="751"/>
                      <a:pt x="0" y="775"/>
                    </a:cubicBez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765760" y="3207240"/>
                <a:ext cx="278820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zone conversationnel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144760" y="4158000"/>
                <a:ext cx="19774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uil d’audibilit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44360" y="1858320"/>
                <a:ext cx="661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863480" y="4430520"/>
                <a:ext cx="661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733320" y="2103480"/>
              <a:ext cx="87631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sensibilité de l’orei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44480" y="3521160"/>
            <a:ext cx="8763120" cy="2700360"/>
            <a:chOff x="744480" y="3521160"/>
            <a:chExt cx="8763120" cy="27003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846000" y="4094280"/>
              <a:ext cx="299736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744480" y="3521160"/>
              <a:ext cx="87631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ondération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28584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305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 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Le Décibel : quelques repè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53960" y="4478400"/>
            <a:ext cx="2551320" cy="1134360"/>
            <a:chOff x="453960" y="4478400"/>
            <a:chExt cx="2551320" cy="1134360"/>
          </a:xfrm>
        </p:grpSpPr>
        <p:sp>
          <p:nvSpPr>
            <p:cNvPr id="308" name=""/>
            <p:cNvSpPr/>
            <p:nvPr/>
          </p:nvSpPr>
          <p:spPr>
            <a:xfrm>
              <a:off x="1255680" y="5138640"/>
              <a:ext cx="776160" cy="459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960" y="4478400"/>
              <a:ext cx="2551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juste percep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55920" y="5154480"/>
              <a:ext cx="143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+ 1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332160" y="3724200"/>
            <a:ext cx="1967040" cy="1927440"/>
            <a:chOff x="3332160" y="3724200"/>
            <a:chExt cx="1967040" cy="1927440"/>
          </a:xfrm>
        </p:grpSpPr>
        <p:sp>
          <p:nvSpPr>
            <p:cNvPr id="312" name=""/>
            <p:cNvSpPr/>
            <p:nvPr/>
          </p:nvSpPr>
          <p:spPr>
            <a:xfrm>
              <a:off x="3882960" y="4903920"/>
              <a:ext cx="141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+ 3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54360" y="4338720"/>
              <a:ext cx="776520" cy="1312920"/>
            </a:xfrm>
            <a:prstGeom prst="upArrow">
              <a:avLst>
                <a:gd name="adj1" fmla="val 50000"/>
                <a:gd name="adj2" fmla="val 42269"/>
              </a:avLst>
            </a:prstGeom>
            <a:solidFill>
              <a:srgbClr val="ffff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32160" y="3724200"/>
              <a:ext cx="16351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percep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227480" y="2068560"/>
            <a:ext cx="4448160" cy="3638520"/>
            <a:chOff x="4227480" y="2068560"/>
            <a:chExt cx="4448160" cy="3638520"/>
          </a:xfrm>
        </p:grpSpPr>
        <p:sp>
          <p:nvSpPr>
            <p:cNvPr id="316" name=""/>
            <p:cNvSpPr/>
            <p:nvPr/>
          </p:nvSpPr>
          <p:spPr>
            <a:xfrm>
              <a:off x="5756400" y="2068560"/>
              <a:ext cx="776160" cy="3638520"/>
            </a:xfrm>
            <a:prstGeom prst="upArrow">
              <a:avLst>
                <a:gd name="adj1" fmla="val 50000"/>
                <a:gd name="adj2" fmla="val 117196"/>
              </a:avLst>
            </a:prstGeom>
            <a:solidFill>
              <a:srgbClr val="ffff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84720" y="3882960"/>
              <a:ext cx="1041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+1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7480" y="2374920"/>
              <a:ext cx="4448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sensation de « deux fois plus fort 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353960" y="270000"/>
            <a:ext cx="7620120" cy="1562040"/>
            <a:chOff x="1353960" y="270000"/>
            <a:chExt cx="7620120" cy="1562040"/>
          </a:xfrm>
        </p:grpSpPr>
        <p:sp>
          <p:nvSpPr>
            <p:cNvPr id="320" name=""/>
            <p:cNvSpPr/>
            <p:nvPr/>
          </p:nvSpPr>
          <p:spPr>
            <a:xfrm>
              <a:off x="1353960" y="27000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Arial"/>
                </a:rPr>
                <a:t>Les unités </a:t>
              </a:r>
              <a:br>
                <a:rPr sz="4400"/>
              </a:b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 Narrow"/>
                </a:rPr>
                <a:t>Le Décibel : quelques repè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27080" y="1094040"/>
              <a:ext cx="634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400640" y="1712880"/>
            <a:ext cx="590400" cy="4351320"/>
          </a:xfrm>
          <a:prstGeom prst="upArrow">
            <a:avLst>
              <a:gd name="adj1" fmla="val 75009"/>
              <a:gd name="adj2" fmla="val 45688"/>
            </a:avLst>
          </a:prstGeom>
          <a:gradFill rotWithShape="0">
            <a:gsLst>
              <a:gs pos="0">
                <a:srgbClr val="ff6600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98640" y="2019240"/>
            <a:ext cx="7510320" cy="4222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406040" y="1890720"/>
            <a:ext cx="58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B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40:59Z</dcterms:created>
  <dc:creator>doisy-s</dc:creator>
  <dc:description/>
  <dc:language>en-US</dc:language>
  <cp:lastModifiedBy>doisy-s</cp:lastModifiedBy>
  <dcterms:modified xsi:type="dcterms:W3CDTF">2008-10-07T13:56:14Z</dcterms:modified>
  <cp:revision>18</cp:revision>
  <dc:subject/>
  <dc:title>Notions d’acoustique </dc:title>
</cp:coreProperties>
</file>