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20.png" ContentType="image/png"/>
  <Override PartName="/ppt/media/image2.wmf" ContentType="image/x-wmf"/>
  <Override PartName="/ppt/media/image19.jpeg" ContentType="image/jpeg"/>
  <Override PartName="/ppt/media/image18.jpeg" ContentType="image/jpeg"/>
  <Override PartName="/ppt/media/image7.png" ContentType="image/png"/>
  <Override PartName="/ppt/media/image1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34200" y="146160"/>
            <a:ext cx="2133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entury Gothic"/>
              </a:rPr>
              <a:t>EAU ET MILIEUX AQUATIQ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2286000"/>
            <a:ext cx="0" cy="4572000"/>
          </a:xfrm>
          <a:prstGeom prst="line">
            <a:avLst/>
          </a:prstGeom>
          <a:ln cap="rnd" w="38160">
            <a:solidFill>
              <a:srgbClr val="00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0" y="2666880"/>
            <a:ext cx="13510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99"/>
                </a:solidFill>
                <a:latin typeface="Tahoma"/>
              </a:rPr>
              <a:t>Coulées d’eaux boueuses : un risque affectant les plans et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333399"/>
                </a:solidFill>
                <a:latin typeface="Tahoma"/>
              </a:rPr>
              <a:t>Formation commissaires enquê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99"/>
                </a:solidFill>
                <a:latin typeface="Tahoma"/>
              </a:rPr>
              <a:t>10/10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99"/>
                </a:solidFill>
                <a:latin typeface="Tahoma"/>
              </a:rPr>
              <a:t>Kintzheim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1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691320"/>
            <a:ext cx="9144000" cy="166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14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_Diren_Alsace_COUL" descr=""/>
          <p:cNvPicPr/>
          <p:nvPr/>
        </p:nvPicPr>
        <p:blipFill>
          <a:blip r:embed="rId4"/>
          <a:stretch/>
        </p:blipFill>
        <p:spPr>
          <a:xfrm>
            <a:off x="152280" y="685800"/>
            <a:ext cx="1138320" cy="1447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question des coulées d’eaux boueus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risque naturel à prendre en comp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ren Alsace – D. Lomb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éments issus du travail inter-services 2007-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sentation dans le contexte des Plans et Projets soumis à enquête publ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parmi les autres risques naturels maj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mémoire du ri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lier de la prévention et de la résili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icile à entret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 d’intérêt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cès à une information capitalis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supports d’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te internet d’information préven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ac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 riverain – le public : droit à l’information préventive, obligations dans les locations/ventes (IAL)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 préfet et le maire : obligations d’information, actions de préven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’agriculteur et l’aménageur : enjeu/contrainte économiq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ure du servic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tat et services des Conseils Généraux se mobilisen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 la connaissance des phénomènes et des zones potentiellement à risqu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rter à connaissance de ces information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tualisation des expériences et des bonnes pratiqu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vail en partenariat avec Chambres d’Agricultu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ation de crédits d’investiss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éments de porter à con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Portail risques als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Etude Araa sur site Diren : cartographie dynamiq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Dossier Départemental des Risques Majeurs et envoi aux commu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Information/Formation des urbanis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http://www.risques-alsace.fr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lipBoard-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ens vers les données sur la commu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ClipBoard-3" descr=""/>
          <p:cNvPicPr/>
          <p:nvPr/>
        </p:nvPicPr>
        <p:blipFill>
          <a:blip r:embed="rId1"/>
          <a:stretch/>
        </p:blipFill>
        <p:spPr>
          <a:xfrm>
            <a:off x="50760" y="1074600"/>
            <a:ext cx="80265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rte de sensibilité à l’érosion des sols en Als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lipBoard-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mple de projet de pré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duction de la sensibilité des sols à l’é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chniques alternatives (culture simplifiée, techniques sans lab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versifier l’asso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Mesures agri-environnement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tockage de la boue : ouvrages hydraul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icro-ouvrages : fascines, ha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sins de retenue (juste en amont de la zone à proté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mesures hydraul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imitation des « points durs » en ville et réduction de la vulnérabilit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opper nouveaux bus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venir sur buses existantes (augmentation, élimination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voir ouvrages d’art problé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viter les sous sols et locaux 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5160" y="914400"/>
            <a:ext cx="604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re PPR ou aménagement loi sur l’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1880" y="3809880"/>
            <a:ext cx="0" cy="198144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943600"/>
            <a:ext cx="0" cy="53352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léments à prendre en compte dans un autre plan ou projet en secteur à ri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lité de l’analyse – diagnostic et propositions hydrauliques (effets sédiment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roche territori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se en compte des trois enjeux : capital sol (économie agricole), vulnérabilité biens et personnes, qualité des eau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se en compte des coûts, d’entretien et d’investiss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114300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tacts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REN Alsace et services de l’Etat : site portail risques, site de préfecture et de la DIREN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RAA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ssociation pour la Relance Agronomique en Alsace (ARAA). 2 rue de Rome - BP 30022 SCHILTIGHEIM 67013 STRASBOURG Cedex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IMFS :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titut de Mécanique des Fluides et des Solid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rue de Boussingault 67083 STRASBOURG CEDEX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de ri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289160"/>
            <a:ext cx="691992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finition des coulées d’eaux bou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91320" y="2133720"/>
            <a:ext cx="3047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Écoulement d’eau chargé en sédiments dont le facteur déclenchant est le ruissellement et l’érosion des s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teurs concerné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Alsace : Sundgau, piémont viticole et autres col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rrence : surtout autour de mai - juin, lors des orages sur sol 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équences : sur habitat, sols et qualité des e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-2000"/>
          </a:blip>
          <a:stretch/>
        </p:blipFill>
        <p:spPr>
          <a:xfrm>
            <a:off x="0" y="1905120"/>
            <a:ext cx="559584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87840" y="6172200"/>
            <a:ext cx="326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hoto et source :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Julien GUYONNET, IMFS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35160" y="-387360"/>
            <a:ext cx="4849200" cy="4977000"/>
            <a:chOff x="1235160" y="-387360"/>
            <a:chExt cx="4849200" cy="497700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2352240" y="-387360"/>
              <a:ext cx="3732120" cy="49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235160" y="560520"/>
              <a:ext cx="1695240" cy="14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ols limoneux sensibles à la bat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lief de col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0" y="907920"/>
            <a:ext cx="4673520" cy="4181400"/>
            <a:chOff x="4572000" y="907920"/>
            <a:chExt cx="4673520" cy="41814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4572000" y="907920"/>
              <a:ext cx="3137040" cy="41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50280" y="2201760"/>
              <a:ext cx="1695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atiques culturales favorisant les cultures de printem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37160" y="3817800"/>
            <a:ext cx="4434840" cy="2924280"/>
            <a:chOff x="137160" y="3817800"/>
            <a:chExt cx="4434840" cy="292428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1805040" y="3817800"/>
              <a:ext cx="276696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37160" y="5772240"/>
              <a:ext cx="188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éseau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e colle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u ruissel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4120" y="1125360"/>
            <a:ext cx="4673880" cy="4224600"/>
            <a:chOff x="114120" y="1125360"/>
            <a:chExt cx="4673880" cy="422460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25600" y="1125360"/>
              <a:ext cx="4262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4120" y="3933720"/>
              <a:ext cx="233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Occupation du s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organisation des B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925800" y="3860640"/>
            <a:ext cx="5218200" cy="2766960"/>
            <a:chOff x="3925800" y="3860640"/>
            <a:chExt cx="5218200" cy="2766960"/>
          </a:xfrm>
        </p:grpSpPr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3925800" y="3860640"/>
              <a:ext cx="369108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448400" y="5322600"/>
              <a:ext cx="1695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isque orageux au printemps &amp; en é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0"/>
            <a:ext cx="184320" cy="39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</a:rPr>
              <a:t>IMF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Pourquoi des coulées d’eau boueuse en Alsa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lipBoard-1" descr=""/>
          <p:cNvPicPr/>
          <p:nvPr/>
        </p:nvPicPr>
        <p:blipFill>
          <a:blip r:embed="rId1"/>
          <a:stretch/>
        </p:blipFill>
        <p:spPr>
          <a:xfrm>
            <a:off x="0" y="457200"/>
            <a:ext cx="864072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467480" y="6248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Arial"/>
              </a:rPr>
              <a:t>IM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 un B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144792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différents impacts des coulées d’eaux bou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8760" y="9144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m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13760" y="8380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01720"/>
            <a:ext cx="2700360" cy="188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00360" y="1690560"/>
            <a:ext cx="2663640" cy="188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64000" y="1679400"/>
            <a:ext cx="1951200" cy="189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315200" y="1670040"/>
            <a:ext cx="1828800" cy="1901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573360"/>
            <a:ext cx="9144000" cy="1532160"/>
          </a:xfrm>
          <a:prstGeom prst="rect">
            <a:avLst/>
          </a:prstGeom>
          <a:solidFill>
            <a:srgbClr val="d8ed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7120" y="365760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Terres agric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3120" y="365760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59720" y="3657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Hab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2600" y="3645000"/>
            <a:ext cx="12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Riviè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6095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A -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657240" y="4267080"/>
            <a:ext cx="20574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Impacts sur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7424640" cy="0"/>
          </a:xfrm>
          <a:prstGeom prst="line">
            <a:avLst/>
          </a:prstGeom>
          <a:ln w="57240">
            <a:solidFill>
              <a:srgbClr val="00cc99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es d’Alsace touch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195" t="5195" r="5195" b="5195"/>
          <a:stretch/>
        </p:blipFill>
        <p:spPr>
          <a:xfrm>
            <a:off x="5105520" y="914400"/>
            <a:ext cx="372240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71280" y="624852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entury Gothic"/>
              </a:rPr>
              <a:t>Études demandes CatNat – IM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859200" cy="5106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0680" y="6324480"/>
            <a:ext cx="39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nsibilité potentielle érosion 67 - AR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mémoire du ris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13716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lier de la prévention et de la résili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fficile à entret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 d’intérêt à court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cès à une information capitalis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supports d’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te internet d’information préven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lipBoard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5:45:12Z</dcterms:created>
  <dc:creator>DE</dc:creator>
  <dc:description/>
  <dc:language>en-US</dc:language>
  <cp:lastModifiedBy>dl</cp:lastModifiedBy>
  <cp:lastPrinted>2001-11-28T12:42:34Z</cp:lastPrinted>
  <dcterms:modified xsi:type="dcterms:W3CDTF">2008-10-10T10:44:30Z</dcterms:modified>
  <cp:revision>434</cp:revision>
  <dc:subject/>
  <dc:title>Aucun titre de diapositive</dc:title>
</cp:coreProperties>
</file>