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77F75-3C6F-44E8-ADFB-2C70F5466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C84FB-26B9-43EB-B6A9-C88DB28B9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15F9B-2605-4219-A24F-6782C1629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1B530-DF01-4202-8BCB-544705FCB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BBD54-A9A6-4928-8C92-CC81D7055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ACA1C-BDE5-4C4F-B70C-4BF7913AD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E51D6-321E-4231-BB28-9DB4A548B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95A88-3462-4964-86B5-52F9DF86A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ED273-F717-40A7-8768-6B0CACD52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33DEE-5CF5-4C63-8E9C-1313AA715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B08C6-3F0B-4B74-9964-6C8F278B4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2A160-1AF1-4077-9D34-DF8C76862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63D17-DD7A-46D2-9250-77840D69420B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angements introduits par le nouveau décret portant réforme de l’enquête publiq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50560" y="765000"/>
            <a:ext cx="878508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 grands types d’EP : Enquêtes environnementales (Code de l’Environnement) et enquêtes relevant du Code de l’Expropriation – Les autres enquêtes sont l’exception « Enquêtes de Commodo et Incommodo 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umération des exceptions aux EP (Art R.123-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utorité compétente pour ouvrir l’EP – Simplification (Art R.123-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ésignation du CE (R.123-5)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2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xigences précisées et sanction (&lt; 5ans, CE doit déclarer avant désignation incompatibilités et signer déclaration sur l’honneu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2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E désigné dans délai de 15 jours + </a:t>
            </a: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suppléant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(qui n’intervient pas ni dans la conduite de l’EP ni dans l’élaboration du rapport</a:t>
            </a:r>
            <a:r>
              <a:rPr b="1" lang="en-US" sz="1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pas sa signature sur rapport), mais tous reçoivent copie dossier complet EP et copie numériqu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urée EP(R.123-6) : 30 jours ≤ EP ≤ 2 mois. Prolongation par CE pour max 30 j (après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info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autorité compétent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quête publique unique (Art R123-7 : Enquêtes conjointes demeurent mais possibilité de faire procéder à enquête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unique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lorsque EP sur le même sujet dépendent de plusieurs autorités compétentes </a:t>
            </a:r>
            <a:r>
              <a:rPr b="1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rapport uniq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mposition du dossier d’enquête (Art R.123-8) plus exigeant et plus complet (notamment bilan débat public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rganisation enquête (Art. R123-9)  : exigences complémentai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Jours et heures enquête (Art R.123-10) : sans changement, notamment pour choix des permanences samedis, dimanches et jours férié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ublicité (Art R.123-11) sans changement mais compléments et précision (Internet notamm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rmation des communes (Art R.123-12) : simplification concernant communes concernées par enquête dont mairie non désignée comme lieu d’enquê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bservations, propositions et contre-propositions du public (Art R.123-13). Possibilité de les adresser par « moyen électronique » </a:t>
            </a:r>
            <a:r>
              <a:rPr b="1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tenues à disposition du public au siège de l’enquête . Observations consultables (et communicables aux frais du demandeur) pendant toute la durée de l’enquêt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mmunication de documents à la demande du CE (Art R.123-14) . Versé au dossier avant enquête, rien de changé. Mais possibilité ajout en cours d’enquête en mentionnant cet ajout par bordereau</a:t>
            </a:r>
            <a:r>
              <a:rPr b="1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réserve de la C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isite des lieux par le commissaire enquêteur (R.123-15) Rien de chang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udition de personnes par le commissaire enquêteur (Art R.123-16) Précisions apportées sur mention refus ou absence réponse dans rappor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éunion d’information et d’échange avec le public (Art R.123-17) . CE informe (fait part) au préfet (plus d’accord nécessaire de ce dernier qui a compétence liée) . Précisions sur possibilité enregistrement audio ou vidéo réunion et sur les frais d’organisation de la réun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08000" y="476280"/>
            <a:ext cx="892800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Clôture de l’enquête (Art R.123-18) : Registre(s) clos par le Commissaire enquêteur ou transmis sans délai et clos par lui (si pluralité de lieux d’enquête). Dans les 8 j communication obs écrites et orales (par PV de synthèse)  au responsable projet qui dispose de 15 j pour répondre (éventuellement) </a:t>
            </a:r>
            <a:r>
              <a:rPr b="1" lang="fr-FR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 généralisation du mémoire en répon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Rapport et conclusions (Art R.123-19) Inchangé : relate déroulement et examine observations recueillies, mais précisions apportées sur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Arial"/>
              </a:rPr>
              <a:t>Ce que doit comporter le rapport : « Le rapport comporte le rappel de l’objet du projet, plan ou programme, de la liste de l’ensemble des pièces figurant dans le dossier d’enquête, de la façon dont l’enquête a été organisée et s’est déroulée, ainsi que la synthèse des observations du public, le résumé et l’analyse des observations, propositions et contre-propositions produites durant l’enquête et, le cas échéant, les observations produites par le responsable du projet, plan ou programme en réponse aux observations du public) »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900" spc="-1" strike="noStrike">
                <a:solidFill>
                  <a:srgbClr val="000000"/>
                </a:solidFill>
                <a:latin typeface="Arial"/>
              </a:rPr>
              <a:t>Ce que doivent être les conclusions : « Le commissaire enquêteur ou la commission d'enquête consigne, dans un document séparé, ses conclusions motivées, en précisant si elles sont favorables, favorables sous réserves ou défavorables au projet, plan ou programme »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900" spc="-1" strike="noStrike">
                <a:solidFill>
                  <a:srgbClr val="000000"/>
                </a:solidFill>
                <a:latin typeface="Arial"/>
              </a:rPr>
              <a:t>Les délais de transmission du rapport et les sanctions éventuelles si non transmission dans délai ou demande non motivée report délai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Insuffisance ou défaut de motivation (Art R.123-20) constatée par autorité organisant enquête</a:t>
            </a:r>
            <a:r>
              <a:rPr b="1" lang="fr-FR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 informe Président du TA sous 15 j </a:t>
            </a:r>
            <a:r>
              <a:rPr b="1" lang="fr-FR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 si insuffisance ou défaut de motivation avéré </a:t>
            </a:r>
            <a:r>
              <a:rPr b="1" lang="fr-FR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 15 j pour demander au CE de compléter ses conclusions qui doit remettre ses conclusions motivées complétées à autorité organisant enquête sous 1 mo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Copie du rapport (R.123-21) aux communes et Préfecture concernées et (éventuellement site Internet) pendant 1 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uspension enquête (Art R.123-22) Enquête poursuivie après suspension est menée par même commissaire enquêteur  (nouvel arrêté, nouvelle pub et nouvelle info des communes). Doit durer au moins 30j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Enquête complémentaire (R.123-23). Durée minimale de 15 j et dans délai de 15 j après clôture, le commissaire enquêteur joint au rapport principal un rapport complémentaire et des conclusions complémentair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Prorogation de la durée de validité d’une enquête publique (Art R.123-24) au bout de 5 ans (sauf prorogation de 5 ans) </a:t>
            </a:r>
            <a:r>
              <a:rPr b="1" lang="fr-FR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 Nouvelle enquête nécessai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Indemnisation du commissaire enquêteu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Arial"/>
              </a:rPr>
              <a:t>(Art R.123-25) Modalités inchangées : « Difficultés de l’enquête et nature et qualité du travail fourni » mais précisions complémentaires : « Nombre d’heures depuis nomination jusqu’au rendu du rapport et des conclusions »; Renvoi à un arrêté pour fixer les modalités du calcul de l’indemnité</a:t>
            </a:r>
            <a:r>
              <a:rPr b="1" lang="fr-FR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fr-FR" sz="900" spc="-1" strike="noStrike">
                <a:solidFill>
                  <a:srgbClr val="000000"/>
                </a:solidFill>
                <a:latin typeface="Arial"/>
              </a:rPr>
              <a:t> Cohérence et uniformisation entre les différents T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Arial"/>
              </a:rPr>
              <a:t>(Art R.123-26) Création du fonds d’indemnisation des commissaires enquêteurs . Précisions apportées sur le versement complémentaire effectué par le responsable du projet au titre des contributions de l’employeur et du salarié (Code de la Sécurité social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Arial"/>
              </a:rPr>
              <a:t>(Art R.123-27) Instauration du versement d’une </a:t>
            </a:r>
            <a:r>
              <a:rPr b="1" lang="fr-FR" sz="900" spc="-1" strike="noStrike" u="sng">
                <a:solidFill>
                  <a:srgbClr val="000000"/>
                </a:solidFill>
                <a:uFillTx/>
                <a:latin typeface="Arial"/>
              </a:rPr>
              <a:t>provision</a:t>
            </a:r>
            <a:r>
              <a:rPr b="1" lang="fr-FR" sz="900" spc="-1" strike="noStrike">
                <a:solidFill>
                  <a:srgbClr val="000000"/>
                </a:solidFill>
                <a:latin typeface="Arial"/>
              </a:rPr>
              <a:t> systématique par responsable projet dés nomination du commissaire enquêteur et maintien du principe du versement d’une allocation provisionnelle sur demande du commissaire enquêteur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539640" y="115560"/>
            <a:ext cx="822960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angements introduits par le nouveau décret portant réforme de l’enquête publique (suit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2149560" y="0"/>
          <a:ext cx="484668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49560" y="0"/>
                    <a:ext cx="484668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0" y="366840"/>
          <a:ext cx="9144000" cy="646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66840"/>
                    <a:ext cx="9144000" cy="646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2309760" y="0"/>
          <a:ext cx="484668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09760" y="0"/>
                    <a:ext cx="484668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2T15:00:42Z</dcterms:created>
  <dc:creator>Jean Pierre</dc:creator>
  <dc:description/>
  <dc:language>en-US</dc:language>
  <cp:lastModifiedBy>Jean Pierre</cp:lastModifiedBy>
  <dcterms:modified xsi:type="dcterms:W3CDTF">2011-04-20T15:18:48Z</dcterms:modified>
  <cp:revision>3</cp:revision>
  <dc:subject/>
  <dc:title>Diapositive 1</dc:title>
</cp:coreProperties>
</file>