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F2E-E7C3-4F9C-84FD-D7C83C5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50B-5843-435B-A234-D187C20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327-CABF-47A4-AD0B-FFA3019B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90D-DEAB-492D-ADED-8CBD9DC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8BF-9C2B-4BE1-9190-307C422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3B3-61EB-439D-B6E0-0781298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B7D-AE57-4CC0-9F4F-DD2C2A15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079-5B58-41C7-A6DE-FAD0068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496-6D3C-4775-9C7B-EE04883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4D1-055F-49E5-8A92-5208A9A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72C-206F-44C6-AB09-9EC3317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F51-CC2A-4E8A-BF89-63160FC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ECC-9594-4922-8C77-CF79260C62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8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grands types d’EP : Enquêtes environnementales (Code de l’Environnement) et enquêtes relevant du Code de l’Expropriation – Les autres enquêtes sont l’exception « Enquêtes de Commodo et Incommodo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umération des exceptions aux EP (Art R.123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rité compétente pour ouvrir l’EP – Simplification (Art R.123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signation du CE (R.123-5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gences précisées et sanction (&lt; 5ans, CE doit déclarer avant désignation incompatibilités et signer déclaration sur l’honneu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 désigné dans délai de 15 jours +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pplé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qui n’intervient pas ni dans la conduite de l’EP ni dans l’élaboration du rapport</a:t>
            </a:r>
            <a:r>
              <a:rPr b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as sa signature sur rapport), mais tous reçoivent copie dossier complet EP et copie numér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ée EP(R.123-6) : 30 jours ≤ EP ≤ 2 mois. Prolongation par CE pour max 30 j (aprè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f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torité compét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quête publique unique (Art R123-7 : Enquêtes conjointes demeurent mais possibilité de faire procéder à enquêt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lorsque EP sur le même sujet dépendent de plusieurs autorités compétentes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apport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sition du dossier d’enquête (Art R.123-8) plus exigeant et plus complet (notamment bilan débat publi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ation enquête (Art. R123-9)  : exigences complé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urs et heures enquête (Art R.123-10) : sans changement, notamment pour choix des permanences samedis, dimanches et jours fé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ité (Art R.123-11) sans changement mais compléments et précision (Internet notam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des communes (Art R.123-12) : simplification concernant communes concernées par enquête dont mairie non désignée comme lieu d’enquê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s, propositions et contre-propositions du public (Art R.123-13). Possibilité de les adresser par « moyen électronique »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nues à disposition du public au siège de l’enquête . Observations consultables (et communicables aux frais du demandeur) pendant toute la durée de l’enquê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de documents à la demande du CE (Art R.123-14) . Versé au dossier avant enquête, rien de changé. Mais possibilité ajout en cours d’enquête en mentionnant cet ajout par bordereau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éserve de la C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ite des lieux par le commissaire enquêteur (R.123-15) Rien de chang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tion de personnes par le commissaire enquêteur (Art R.123-16) Précisions apportées sur mention refus ou absence réponse dans ra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union d’information et d’échange avec le public (Art R.123-17) . CE informe (fait part) au préfet (plus d’accord nécessaire de ce dernier qui a compétence liée) . Précisions sur possibilité enregistrement audio ou vidéo réunion et sur les frais d’organisation de la ré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9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lôture de l’enquête (Art R.123-18) : Registre(s) clos par le Commissaire enquêteur ou transmis sans délai et clos par lui (si pluralité de lieux d’enquête). Dans les 8 j communication obs écrites et orales (par PV de synthèse)  au responsable projet qui dispose de 15 j pour répondre (éventuellement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généralisation du mémoire en ré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pport et conclusions (Art R.123-19) Inchangé : relate déroulement et examine observations recueillies, mais précisions apportées su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t comporter le rapport : « Le rapport comporte le rappel de l’objet du projet, plan ou programme, de la liste de l’ensemble des pièces figurant dans le dossier d’enquête, de la façon dont l’enquête a été organisée et s’est déroulée, ainsi que la synthèse des observations du public, le résumé et l’analyse des observations, propositions et contre-propositions produites durant l’enquête et, le cas échéant, les observations produites par le responsable du projet, plan ou programme en réponse aux observations du public)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vent être les conclusions : « Le commissaire enquêteur ou la commission d'enquête consigne, dans un document séparé, ses conclusions motivées, en précisant si elles sont favorables, favorables sous réserves ou défavorables au projet, plan ou programme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s délais de transmission du rapport et les sanctions éventuelles si non transmission dans délai ou demande non motivée report déla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uffisance ou défaut de motivation (Art R.123-20) constatée par autorité organisant enquête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informe Président du TA sous 15 j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si insuffisance ou défaut de motivation avéré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15 j pour demander au CE de compléter ses conclusions qui doit remettre ses conclusions motivées complétées à autorité organisant enquête sous 1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pie du rapport (R.123-21) aux communes et Préfecture concernées et (éventuellement site Internet) pendant 1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spension enquête (Art R.123-22) Enquête poursuivie après suspension est menée par même commissaire enquêteur  (nouvel arrêté, nouvelle pub et nouvelle info des communes). Doit durer au moins 30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nquête complémentaire (R.123-23). Durée minimale de 15 j et dans délai de 15 j après clôture, le commissaire enquêteur joint au rapport principal un rapport complémentaire et des conclusions complément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rogation de la durée de validité d’une enquête publique (Art R.123-24) au bout de 5 ans (sauf prorogation de 5 ans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Nouvelle enquête nécess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demnisation du commissaire enquête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5) Modalités inchangées : « Difficultés de l’enquête et nature et qualité du travail fourni » mais précisions complémentaires : « Nombre d’heures depuis nomination jusqu’au rendu du rapport et des conclusions »; Renvoi à un arrêté pour fixer les modalités du calcul de l’indemnité</a:t>
            </a:r>
            <a:r>
              <a:rPr b="1" lang="fr-F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Cohérence et uniformisation entre les différents 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6) Création du fonds d’indemnisation des commissaires enquêteurs . Précisions apportées sur le versement complémentaire effectué par le responsable du projet au titre des contributions de l’employeur et du salarié (Code de la Sécurité soci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7) Instauration du versement d’une </a:t>
            </a:r>
            <a:r>
              <a:rPr b="1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provisio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systématique par responsable projet dés nomination du commissaire enquêteur et maintien du principe du versement d’une allocation provisionnelle sur demande du commissaire enquête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495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366840"/>
          <a:ext cx="9144000" cy="64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6840"/>
                    <a:ext cx="9144000" cy="64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3097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00:42Z</dcterms:created>
  <dc:creator>Jean Pierre</dc:creator>
  <dc:description/>
  <dc:language>en-US</dc:language>
  <cp:lastModifiedBy>Jean Pierre</cp:lastModifiedBy>
  <dcterms:modified xsi:type="dcterms:W3CDTF">2011-04-20T15:18:48Z</dcterms:modified>
  <cp:revision>3</cp:revision>
  <dc:subject/>
  <dc:title>Diapositive 1</dc:title>
</cp:coreProperties>
</file>